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83A0-2F3F-48B3-A132-EEC99799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EDE-A36F-4092-9685-0F5CB4C8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85DD-451C-48A1-AF79-BD3769F1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4798-49A8-407C-8814-36C25F7F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854-2EB1-4E94-8F3A-6C281DE4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118-ADC9-4FF6-8164-B7CC4E19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3E39-3D9E-4806-BE8B-92291713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3C9F-CA77-47F2-BAE1-F4361375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9313-CB30-4BE0-80E2-9C015509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B80-37BF-4137-AE93-2D2D7AE2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2503-EEEB-4C96-B47D-784EBC78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28B-0D5C-4D7C-BBAB-2A9F8F01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F497-A9F3-4AFD-9669-150A867CF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A6D-CC97-45F6-8B8B-83D50E7E6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D6D-4DD0-4AF2-85B7-A2055C5D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84E-7C27-4792-96F0-20476D3D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F20-0A75-4913-AB30-B9873B5D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22D-F195-4C07-983B-06347846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121E-94ED-48DD-AC47-3B8FCEAD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623-3BE5-4363-A05C-59863F8E6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3EB-DF07-46F1-9AFA-6D11883530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0A32-C9B8-40E3-89A0-46307C47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9F3-6EA3-4C4C-9914-60B91F49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94C5-CCD8-4550-9EC4-285F61C9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CF4-4D04-41B6-B3DE-AC6476A2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C1A2-F447-4D3E-B994-6D6C972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B60D-FF97-4EFF-9DF1-D16638DF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842D-75E5-4D11-8A48-4CB4ED98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DC67-32C3-4556-8741-3CB0E89D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00EA-B3EE-450F-8791-A9FAAE65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E4F0-0EA8-4477-9174-C926CE0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D9C9-20E7-458B-BB4D-AAAAEC3A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DE55-A575-4F45-881A-574E41E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6297-C0C3-46D0-BF63-9F7BCBE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09A-289F-47F5-8ED9-E325719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C9FF-E6D5-4353-8DA1-ABF692AC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6CB8-9A87-48F8-8E52-C2F2F9F6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681D-74BD-43E7-8365-FA12CA3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136-DDF8-4BF0-B7DC-D085CA5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04E0-039F-4438-8C78-F23CFCE7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848-9F3D-4251-8031-7E8FEF1E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32C0-DB6E-4A84-B1EE-FDAAF62E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D1C0-4E22-44A8-B22A-0C5D188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EFF5-951E-43F6-B9BF-3969880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2A64-E9EC-48EB-9123-F2463948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67CC-9C44-4A6A-A009-9135836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724C-EF93-4A0E-819C-C518BA8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4352-8E84-4ED6-A185-60204B7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D2A7-6308-4509-89C8-B7E9FB3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437-6A7B-4F32-9A98-C633BFA4B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AAFC-D317-43D7-A0FB-65FC6D9EB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Arabic Transparent"/>
              </a:rPr>
              <a:t>Writing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Arabic Transparent"/>
              </a:rPr>
              <a:t> Discussion S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paragraph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mplication of your finding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6756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generalize your results beyo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s of the type of participants included in you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isappointing papers are those in which the conclusions are not backed up by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be too tentative if you found a strong association between the exposure and outcomes that you were investig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r results suggest that vitamin consumption could be associated with a decreased risk of respiratory illn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Discussion no longer than necessary to state, support, explain, and defend the answers to the questions and present any other necessary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or 8 paragraphs maximum of three or four sentenc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15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arallel t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your results  to the findings of other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paragraph at end - include significanc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dundancy with results and introduction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sistent with target journal’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mai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relevant important previou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results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ion doubts, weaknesses, and confo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 of Writing-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15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arallel t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your results  to the findings of other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paragraph at end - include significanc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dundancy with results and introduction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r results provide answers to your testable hypothe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how do you interpret your find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r findings agree with what others have sh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do they suggest an alternative explanation or perhaps a unforeseen design flaw in your experiment (or theirs?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our conclusions, what is our new understanding of the problem you investigated and outlined in the Introduction?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eaknesses, shortcomings. Be fair: this will build trust. Don’t over-criticize yourself, don’t go to unnecessary details.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arranted, what would be the next step in your study, e.g., what experiments would you do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erse of Introduction (pyram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discussion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every key finding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finding in terms of what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y this study is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y the  results concur/ disagree with current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us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out future directions/ continued knowled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1B8C-C26B-474F-BA14-01269869B3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362320" y="1857240"/>
            <a:ext cx="451476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927000" y="754200"/>
            <a:ext cx="73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Writ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9890-B823-4D74-8720-B5EA388F57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4112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e v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ever possible in this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 your points cle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 per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kay, but too much use of the first person may actually distract the reader from the main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B835-9F54-40F1-81A8-1E61A49186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0040" y="17856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 your experiment to make it 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w questions did this experiment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mad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ta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your experimental design, di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cuss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x it for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4B2E-6EA6-4473-822F-1BF91365D0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428760" y="1857240"/>
            <a:ext cx="83055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o write Briefly &amp; summarize your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cations of your results for other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 findings in light of th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ncile findings with th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s of your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6160" y="806400"/>
            <a:ext cx="81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nction of Discussion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graphs in Dis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999800"/>
            <a:ext cx="79581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st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ce broa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ate majo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nd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icit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ast 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es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1547640" y="620640"/>
            <a:ext cx="612000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did this study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500720" y="1654200"/>
            <a:ext cx="341280" cy="609480"/>
          </a:xfrm>
          <a:prstGeom prst="downArrow">
            <a:avLst>
              <a:gd name="adj1" fmla="val 50000"/>
              <a:gd name="adj2" fmla="val 446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514520" y="2311560"/>
            <a:ext cx="619128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rength &amp; weaknesses of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547640" y="4030560"/>
            <a:ext cx="619128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3 to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How results support or refute current litera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547640" y="5724360"/>
            <a:ext cx="619128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nal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mpact on current thinking o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500720" y="3370320"/>
            <a:ext cx="341280" cy="609480"/>
          </a:xfrm>
          <a:prstGeom prst="downArrow">
            <a:avLst>
              <a:gd name="adj1" fmla="val 50000"/>
              <a:gd name="adj2" fmla="val 446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00720" y="5076720"/>
            <a:ext cx="341280" cy="609840"/>
          </a:xfrm>
          <a:prstGeom prst="downArrow">
            <a:avLst>
              <a:gd name="adj1" fmla="val 50000"/>
              <a:gd name="adj2" fmla="val 44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id this study 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summary of what you really found and why it wa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will add to current knowledge or change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hrases to begin wit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sults from this study showed that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r results indicate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we found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960" y="1978200"/>
            <a:ext cx="769932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ste entire sentences restating your results; if you need to remind the reader of the result to be discussed, use "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dge Sent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 that relate the result to the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4846680"/>
          <a:ext cx="6553080" cy="132552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"The slow response of the lead-exposed neurons relative to controls suggests that...[interpretation]".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graph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 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ength &amp; weaknes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3410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search is ever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hance, bias, or confounding may have influenced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minimized this po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research is better than what has gon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 3 to n-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e with current litera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results agree or disagree with other studies and with other related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highly relevant and scientifically valid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 to the literature need to be both focused and 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1-24T08:43:10Z</dcterms:modified>
  <cp:revision>45</cp:revision>
  <dc:subject/>
  <dc:title>Introduction</dc:title>
</cp:coreProperties>
</file>