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10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BC2-910A-408A-8718-9F84CE94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C05-C38C-484C-B1FB-C47E42AE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3E7-9EA0-4D12-89C7-B2279D819139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61A-DA93-45F9-B13C-2239545C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76DA-1D5F-4AA0-9FC4-EA114399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66D2-DB8F-4312-A3A8-12C706D7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75D1-37ED-49A5-AD80-EAF82A23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AD7-3128-4EC6-B2F5-C40D907F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B255-65CC-4B8E-8FFF-B7723BCC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C62-BB87-4950-B785-6F9B4B00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C95-6A36-4D7B-ABCE-D9E04EFECF0D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098C-80D8-4485-86BB-03696A98CBD6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E6B-C538-495E-820E-2F0C950A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FE9-B214-4FE9-A779-8900786D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8B27-1C0C-4B44-AC70-8F1792DB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EE0C-02FA-4F26-B2F1-06FD27D4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9702-15A5-48E9-A4DC-A96904B4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3AB6-8199-46A1-BA9D-2BDBF14F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FE9A-4137-492E-B08A-E8F6F843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CCBF-8DB2-4DE1-9D88-46463A3B82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760320" y="684360"/>
            <a:ext cx="2745000" cy="2058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548640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ADE8-43DE-4A97-8E8B-6D9CAF2B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2293-CEA7-4340-8402-99F4727C8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FBB-645F-4D85-A71B-BAE3EE51C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F9A-A5E8-475E-88D2-CB749F95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4D6-11CF-4C18-BDAA-A7260D5E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E99-978C-4068-B3F7-08E47E22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067-B5D6-435B-A70A-AC34E3B7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411-0A48-4D51-8A67-F9AE3460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F2F-DD23-40B3-B27F-1269E007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4C5-9369-43C4-958C-152D6E61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241-95A5-4E08-B80C-2249EFB2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FDDF-3A0E-4FA9-B0D3-C7281043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C495-3FB5-48AB-BFD8-DDA56CAB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1E4-BA26-4156-8166-F35E5358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326D-6ED3-4B5B-A3E4-E8480D1E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F511-E1A9-4D6D-9EDB-E18CAF35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9DC0-0560-4AFF-A9C7-A212C45A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724C-3E4A-4538-82EC-53730F6B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1BE5-3FCB-4DCD-8ACD-F001377B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93E9-71E3-45ED-94D6-CB7D0B1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85E-708C-4F5D-8D83-7762B5A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DEE-FDF7-4127-AFEA-C7475D99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F05D-4ACA-4234-9580-E19A2C00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B4C4-640C-47C0-95E4-72387AC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DA48-8AB2-4AA3-86F1-60E88539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B32-ADBC-4CF9-99A7-B8072EC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050F-5354-4A7B-8FFA-DCA44086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EC8-F9AE-4323-9F46-13B6CC6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1E9-1EEA-4CB1-8EAA-9CE87D8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6E22-CA58-46FA-96F5-07F7345A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085C-6767-4F0C-93E8-53E7FAAC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C3D-84BB-45F1-AB7F-ED2B5619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68E8-352D-4550-A345-365A86F9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BA84-9AB0-46EA-8C7A-A989F2E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521F-F908-4E39-84B7-0F310B7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C0DE-0B10-42BB-BE8A-1B38CA7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D96B-BFF5-4223-A98D-0D54D0C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D36F-ACCC-4212-852A-7C55848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6687-BAC5-4402-A98B-8930A33A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13AC-DD22-4BC3-80EC-47D12F8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AA4C-0B63-4679-8D80-CCC807E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1CE1-D964-4F59-B223-F18980C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9463-2C14-498A-B074-14D991F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9483-C1D2-48CC-8A9B-362129E8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380A-7B55-400A-A9D0-3A3E12E1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9FA9-4ADC-47DA-AA29-3F958FA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D368-833E-46D3-A222-F0C2A3DC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D12D-3E93-40D3-994B-DEEFFB6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7BB7-391A-4D35-B6E8-8A347A9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83FD-2E12-40FF-9B0D-96EFD2B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055A-4E36-44BC-94CB-9C43312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798D-EEE0-4D17-985B-2C32821C8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BA51-F2EB-485C-A876-47751A482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EFD-D65F-4117-8BF3-6E4E9B204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72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cientific Writing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n Medical Scien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3720" y="5713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Scientific Writing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0722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o convey ideas and facts about scientific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understand and criticize each other's work through their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intelligible to readers at the first reading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1928520"/>
            <a:ext cx="7040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contrib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s scientific rig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feedback (improves work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s car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impact on field/re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es your lab for future train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s chances of  fun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fills an obligation (public mon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an Academic Person though his/her CV Pa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28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in list of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Cartoon researcher intimidated by a long CV"/>
          <p:cNvPicPr/>
          <p:nvPr/>
        </p:nvPicPr>
        <p:blipFill>
          <a:blip r:embed="rId1"/>
          <a:stretch/>
        </p:blipFill>
        <p:spPr>
          <a:xfrm>
            <a:off x="5483160" y="2514600"/>
            <a:ext cx="320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Scientific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25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ublish or Perish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Scientific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7856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instructions to authors/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2664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fir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7404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2"/>
          <p:cNvGrpSpPr/>
          <p:nvPr/>
        </p:nvGrpSpPr>
        <p:grpSpPr>
          <a:xfrm>
            <a:off x="609480" y="1600200"/>
            <a:ext cx="7925040" cy="4724280"/>
            <a:chOff x="609480" y="1600200"/>
            <a:chExt cx="7925040" cy="4724280"/>
          </a:xfrm>
        </p:grpSpPr>
        <p:sp>
          <p:nvSpPr>
            <p:cNvPr id="201" name="AutoShape 33"/>
            <p:cNvSpPr/>
            <p:nvPr/>
          </p:nvSpPr>
          <p:spPr>
            <a:xfrm>
              <a:off x="609480" y="1600200"/>
              <a:ext cx="7925040" cy="472428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4"/>
            <p:cNvSpPr/>
            <p:nvPr/>
          </p:nvSpPr>
          <p:spPr>
            <a:xfrm>
              <a:off x="1432080" y="1752480"/>
              <a:ext cx="6445440" cy="672120"/>
            </a:xfrm>
            <a:prstGeom prst="rightArrow">
              <a:avLst>
                <a:gd name="adj1" fmla="val 50000"/>
                <a:gd name="adj2" fmla="val 284672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6"/>
            <p:cNvSpPr/>
            <p:nvPr/>
          </p:nvSpPr>
          <p:spPr>
            <a:xfrm>
              <a:off x="666720" y="1904760"/>
              <a:ext cx="7851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7"/>
            <p:cNvSpPr/>
            <p:nvPr/>
          </p:nvSpPr>
          <p:spPr>
            <a:xfrm>
              <a:off x="683280" y="3253320"/>
              <a:ext cx="15656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I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ERI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8"/>
            <p:cNvSpPr/>
            <p:nvPr/>
          </p:nvSpPr>
          <p:spPr>
            <a:xfrm>
              <a:off x="914040" y="3988800"/>
              <a:ext cx="1248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9"/>
            <p:cNvSpPr/>
            <p:nvPr/>
          </p:nvSpPr>
          <p:spPr>
            <a:xfrm>
              <a:off x="762480" y="4612320"/>
              <a:ext cx="15303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0"/>
            <p:cNvSpPr/>
            <p:nvPr/>
          </p:nvSpPr>
          <p:spPr>
            <a:xfrm>
              <a:off x="1211760" y="5279400"/>
              <a:ext cx="617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1"/>
            <p:cNvSpPr/>
            <p:nvPr/>
          </p:nvSpPr>
          <p:spPr>
            <a:xfrm>
              <a:off x="919080" y="5732640"/>
              <a:ext cx="1317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2"/>
            <p:cNvSpPr/>
            <p:nvPr/>
          </p:nvSpPr>
          <p:spPr>
            <a:xfrm rot="16200000">
              <a:off x="4340520" y="2347560"/>
              <a:ext cx="1002240" cy="99360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28800 h 993600"/>
                <a:gd name="textAreaBottom" fmla="*/ 9648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01"/>
                    <a:pt x="10800" y="2001"/>
                  </a:cubicBezTo>
                  <a:lnTo>
                    <a:pt x="10800" y="8799"/>
                  </a:lnTo>
                  <a:cubicBezTo>
                    <a:pt x="10800" y="9800"/>
                    <a:pt x="5400" y="10800"/>
                    <a:pt x="0" y="10800"/>
                  </a:cubicBezTo>
                  <a:cubicBezTo>
                    <a:pt x="5400" y="10800"/>
                    <a:pt x="10800" y="11801"/>
                    <a:pt x="10800" y="12801"/>
                  </a:cubicBezTo>
                  <a:lnTo>
                    <a:pt x="10800" y="19599"/>
                  </a:lnTo>
                  <a:cubicBezTo>
                    <a:pt x="10800" y="20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3"/>
            <p:cNvSpPr/>
            <p:nvPr/>
          </p:nvSpPr>
          <p:spPr>
            <a:xfrm rot="16200000">
              <a:off x="3296520" y="2505960"/>
              <a:ext cx="283320" cy="3942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45360 h 394200"/>
                <a:gd name="textAreaBottom" fmla="*/ 34884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992"/>
                    <a:pt x="10800" y="7983"/>
                  </a:cubicBezTo>
                  <a:lnTo>
                    <a:pt x="10800" y="2817"/>
                  </a:lnTo>
                  <a:cubicBezTo>
                    <a:pt x="10800" y="6809"/>
                    <a:pt x="5400" y="10800"/>
                    <a:pt x="0" y="10800"/>
                  </a:cubicBezTo>
                  <a:cubicBezTo>
                    <a:pt x="5400" y="10800"/>
                    <a:pt x="10800" y="14792"/>
                    <a:pt x="10800" y="18783"/>
                  </a:cubicBezTo>
                  <a:lnTo>
                    <a:pt x="10800" y="13617"/>
                  </a:lnTo>
                  <a:cubicBezTo>
                    <a:pt x="10800" y="1760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4"/>
            <p:cNvSpPr/>
            <p:nvPr/>
          </p:nvSpPr>
          <p:spPr>
            <a:xfrm>
              <a:off x="3420360" y="2845800"/>
              <a:ext cx="0" cy="565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5"/>
            <p:cNvSpPr/>
            <p:nvPr/>
          </p:nvSpPr>
          <p:spPr>
            <a:xfrm>
              <a:off x="2939400" y="3411360"/>
              <a:ext cx="1302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4-2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6"/>
            <p:cNvSpPr/>
            <p:nvPr/>
          </p:nvSpPr>
          <p:spPr>
            <a:xfrm>
              <a:off x="4860000" y="2845800"/>
              <a:ext cx="0" cy="13586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7"/>
            <p:cNvSpPr/>
            <p:nvPr/>
          </p:nvSpPr>
          <p:spPr>
            <a:xfrm>
              <a:off x="4275360" y="426672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8"/>
            <p:cNvSpPr/>
            <p:nvPr/>
          </p:nvSpPr>
          <p:spPr>
            <a:xfrm rot="16200000">
              <a:off x="567900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4840 h 374400"/>
                <a:gd name="textAreaBottom" fmla="*/ 34956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07"/>
                    <a:pt x="10800" y="4614"/>
                  </a:cubicBezTo>
                  <a:lnTo>
                    <a:pt x="10800" y="6186"/>
                  </a:lnTo>
                  <a:cubicBezTo>
                    <a:pt x="10800" y="8493"/>
                    <a:pt x="5400" y="10800"/>
                    <a:pt x="0" y="10800"/>
                  </a:cubicBezTo>
                  <a:cubicBezTo>
                    <a:pt x="5400" y="10800"/>
                    <a:pt x="10800" y="13107"/>
                    <a:pt x="10800" y="15414"/>
                  </a:cubicBezTo>
                  <a:lnTo>
                    <a:pt x="10800" y="16986"/>
                  </a:lnTo>
                  <a:cubicBezTo>
                    <a:pt x="10800" y="1929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9"/>
            <p:cNvSpPr/>
            <p:nvPr/>
          </p:nvSpPr>
          <p:spPr>
            <a:xfrm>
              <a:off x="5820120" y="2845800"/>
              <a:ext cx="0" cy="19242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0"/>
            <p:cNvSpPr/>
            <p:nvPr/>
          </p:nvSpPr>
          <p:spPr>
            <a:xfrm>
              <a:off x="5189400" y="48798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1"/>
            <p:cNvSpPr/>
            <p:nvPr/>
          </p:nvSpPr>
          <p:spPr>
            <a:xfrm rot="16200000">
              <a:off x="6072120" y="2570400"/>
              <a:ext cx="1002240" cy="54792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14040 h 547920"/>
                <a:gd name="textAreaBottom" fmla="*/ 53388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2"/>
            <p:cNvSpPr/>
            <p:nvPr/>
          </p:nvSpPr>
          <p:spPr>
            <a:xfrm rot="16200000">
              <a:off x="723888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5920 h 374400"/>
                <a:gd name="textAreaBottom" fmla="*/ 34848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89"/>
                    <a:pt x="10800" y="4778"/>
                  </a:cubicBezTo>
                  <a:lnTo>
                    <a:pt x="10800" y="6022"/>
                  </a:lnTo>
                  <a:cubicBezTo>
                    <a:pt x="10800" y="8411"/>
                    <a:pt x="5400" y="10800"/>
                    <a:pt x="0" y="10800"/>
                  </a:cubicBezTo>
                  <a:cubicBezTo>
                    <a:pt x="5400" y="10800"/>
                    <a:pt x="10800" y="13189"/>
                    <a:pt x="10800" y="15578"/>
                  </a:cubicBezTo>
                  <a:lnTo>
                    <a:pt x="10800" y="16822"/>
                  </a:lnTo>
                  <a:cubicBezTo>
                    <a:pt x="10800" y="1921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>
              <a:off x="6574320" y="2845800"/>
              <a:ext cx="0" cy="2377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>
              <a:off x="7397280" y="2845800"/>
              <a:ext cx="0" cy="2829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5"/>
            <p:cNvSpPr/>
            <p:nvPr/>
          </p:nvSpPr>
          <p:spPr>
            <a:xfrm>
              <a:off x="5951520" y="526104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6"/>
            <p:cNvSpPr/>
            <p:nvPr/>
          </p:nvSpPr>
          <p:spPr>
            <a:xfrm>
              <a:off x="6789960" y="57186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7"/>
            <p:cNvSpPr/>
            <p:nvPr/>
          </p:nvSpPr>
          <p:spPr>
            <a:xfrm>
              <a:off x="7548120" y="2743200"/>
              <a:ext cx="832680" cy="541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-4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 rot="16200000">
              <a:off x="1824480" y="2506320"/>
              <a:ext cx="518760" cy="394200"/>
            </a:xfrm>
            <a:custGeom>
              <a:avLst/>
              <a:gdLst>
                <a:gd name="textAreaLeft" fmla="*/ 331560 w 518760"/>
                <a:gd name="textAreaRight" fmla="*/ 519120 w 518760"/>
                <a:gd name="textAreaTop" fmla="*/ 29880 h 394200"/>
                <a:gd name="textAreaBottom" fmla="*/ 36432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38"/>
                    <a:pt x="10800" y="5275"/>
                  </a:cubicBezTo>
                  <a:lnTo>
                    <a:pt x="10800" y="5525"/>
                  </a:lnTo>
                  <a:cubicBezTo>
                    <a:pt x="10800" y="8163"/>
                    <a:pt x="5400" y="10800"/>
                    <a:pt x="0" y="10800"/>
                  </a:cubicBezTo>
                  <a:cubicBezTo>
                    <a:pt x="5400" y="10800"/>
                    <a:pt x="10800" y="13438"/>
                    <a:pt x="10800" y="16075"/>
                  </a:cubicBezTo>
                  <a:lnTo>
                    <a:pt x="10800" y="16325"/>
                  </a:lnTo>
                  <a:cubicBezTo>
                    <a:pt x="10800" y="1896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9"/>
            <p:cNvSpPr/>
            <p:nvPr/>
          </p:nvSpPr>
          <p:spPr>
            <a:xfrm>
              <a:off x="627120" y="2975040"/>
              <a:ext cx="2796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TOCOL/IRB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 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0"/>
            <p:cNvSpPr/>
            <p:nvPr/>
          </p:nvSpPr>
          <p:spPr>
            <a:xfrm>
              <a:off x="3736440" y="5419080"/>
              <a:ext cx="1407240" cy="298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ST GU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785880" y="519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gestational period for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nical sci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blicatio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20714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71680" y="2221560"/>
            <a:ext cx="80722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(Over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radi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yste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eta-analy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analy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different research output are expected from research propos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ypes of Medical artic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4560" y="201456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riginal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as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Communication (short pap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roblem, issue or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your comment, solution,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strong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limi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 your readership (broa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troversial and thought prov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subtle is often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ommunication (pap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data and discuss it shor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few tables or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words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your paper a paper, a brief or a research le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get letters &amp; briefs accept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you indexed easie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ether you should submit it as a brief or letter firs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edical history of a single patient in a story for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ots of information given which may not be seen in a trial or a surve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Often written and published fast compared to stud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o be used as an educational source &amp; to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.g. Thalidom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Articles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vac_pyramid2b"/>
          <p:cNvPicPr/>
          <p:nvPr/>
        </p:nvPicPr>
        <p:blipFill>
          <a:blip r:embed="rId1"/>
          <a:stretch/>
        </p:blipFill>
        <p:spPr>
          <a:xfrm>
            <a:off x="1363680" y="2550960"/>
            <a:ext cx="64166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409760" y="81612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erarchy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71680" y="1928880"/>
            <a:ext cx="5857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atic reviews &amp; meta-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mised controlled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-contro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 sectiona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ecd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ladder"/>
          <p:cNvPicPr/>
          <p:nvPr/>
        </p:nvPicPr>
        <p:blipFill>
          <a:blip r:embed="rId1"/>
          <a:stretch/>
        </p:blipFill>
        <p:spPr>
          <a:xfrm>
            <a:off x="6572160" y="2143080"/>
            <a:ext cx="197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Hierarchy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pyramid12"/>
          <p:cNvPicPr/>
          <p:nvPr/>
        </p:nvPicPr>
        <p:blipFill>
          <a:blip r:embed="rId1"/>
          <a:stretch/>
        </p:blipFill>
        <p:spPr>
          <a:xfrm>
            <a:off x="1600200" y="2103480"/>
            <a:ext cx="62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4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trodu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tho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cu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609480" y="0"/>
            <a:ext cx="8382240" cy="6845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 rot="16200000">
            <a:off x="-3429000" y="2786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“Islam and Science: the data gap”, Nature, 2006, 444(7115):26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840" y="571680"/>
            <a:ext cx="82152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ic Structure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)Summary           (Structured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 Introduction       (What Question was ask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)Metho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(How was it Studi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)Resul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(What was Foun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Analysis           (How data was analys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Discu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Do the Findings Mea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mponents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roduc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 did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od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uss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oes it all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A99-1B08-4EEF-B042-7A947ED747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54120" y="2895480"/>
            <a:ext cx="8285040" cy="1665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403920" y="8380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wtie” Model For a Scientific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102680" y="465444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2971800" y="4870440"/>
            <a:ext cx="86364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5924520" y="4870440"/>
            <a:ext cx="71928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72880" y="3573360"/>
            <a:ext cx="140364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7588080" y="3657600"/>
            <a:ext cx="147960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ull paper may contai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9960" y="1500120"/>
            <a:ext cx="79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nd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Understand the type of manuscript you are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Re-evaluate your pro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Plan the sections and subsections you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Match your content to your readers’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Keep information specific rather tha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Write in plain language. Keep your sentences sh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Use tables, diagrams, flowcharts and grap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Mor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Hall GM, ed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How to write a paper.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 London: BMJ Publishing Group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ced Wri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loresita V.Bustamante, SA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sentials of Writing Biomedical Research Pap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Zei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Scientific Writing Easy when you know how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. Peat J. BMJ Publishing Group.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The Vancouver Group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Uniform requirements for manuscripts submitted to biomedial journals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ww.icmj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وضعيت علمي ايران در دنيا براساس مقالات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4" descr="Info.bmp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وضعيت توليد مقاله و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1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% مقالات پراستناد برتر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در دنيا در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Content Placeholder 3" descr="N.jpg"/>
          <p:cNvPicPr/>
          <p:nvPr/>
        </p:nvPicPr>
        <p:blipFill>
          <a:blip r:embed="rId1"/>
          <a:stretch/>
        </p:blipFill>
        <p:spPr>
          <a:xfrm>
            <a:off x="214200" y="2000160"/>
            <a:ext cx="8766360" cy="43768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-71280" y="648828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Van Noorden, R. "366 days: 2012 in review."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92.7429 (2012): 3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 rot="16200000">
            <a:off x="-2958840" y="310176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omson Reuters/Essential Scie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رشد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برابري شمار مقالات ايران در مقايسه با ميانگين جه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5" descr="33.jpg"/>
          <p:cNvPicPr/>
          <p:nvPr/>
        </p:nvPicPr>
        <p:blipFill>
          <a:blip r:embed="rId1"/>
          <a:stretch/>
        </p:blipFill>
        <p:spPr>
          <a:xfrm>
            <a:off x="457200" y="1928880"/>
            <a:ext cx="8229600" cy="4643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6286680" y="63579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www.science-metrix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7"/>
          <p:cNvSpPr/>
          <p:nvPr/>
        </p:nvSpPr>
        <p:spPr>
          <a:xfrm>
            <a:off x="7286760" y="4857840"/>
            <a:ext cx="1071360" cy="285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78120"/>
          <a:ext cx="8229600" cy="4622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جمعيت (ميليو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رصد تول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عداد مقالات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2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0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39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42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چ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6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0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نگلست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0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لم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7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8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ژاپ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9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7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رانس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5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4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9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انا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3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0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7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يتا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3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9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5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7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 به ازاي هر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يکصدهزار نفر جمعي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78120"/>
          <a:ext cx="8186760" cy="4622760"/>
        </p:xfrm>
        <a:graphic>
          <a:graphicData uri="http://schemas.openxmlformats.org/drawingml/2006/table">
            <a:tbl>
              <a:tblPr/>
              <a:tblGrid>
                <a:gridCol w="1636560"/>
                <a:gridCol w="1638360"/>
                <a:gridCol w="1449360"/>
                <a:gridCol w="1825920"/>
                <a:gridCol w="1636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وليد مقاله در هرصدهزار نفر جمعي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سرانه  توليد مقاله به ازاي هرصدهزار ن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7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1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انمار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8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8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نرو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5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هل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نلا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69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ستر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قايسه فراواني مقالات و ارجاعات صورت‌گرفته به مقالات منتشرشده دانشگاه علوم پزشکي تهران و دانشگاه تهران با دانشگاه‌های رتبه يکصدم و دويستم دنيا در مجموع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Sco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در رتبه‌بندی سا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200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تايم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THS-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14240" y="2000160"/>
          <a:ext cx="7801200" cy="4143600"/>
        </p:xfrm>
        <a:graphic>
          <a:graphicData uri="http://schemas.openxmlformats.org/drawingml/2006/table">
            <a:tbl>
              <a:tblPr/>
              <a:tblGrid>
                <a:gridCol w="881280"/>
                <a:gridCol w="880920"/>
                <a:gridCol w="932040"/>
                <a:gridCol w="1033200"/>
                <a:gridCol w="1032120"/>
                <a:gridCol w="915840"/>
                <a:gridCol w="1521000"/>
                <a:gridCol w="604800"/>
              </a:tblGrid>
              <a:tr h="220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مقا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عضو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عضاي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رجاعات به مقالات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اخي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مقالا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د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کش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ام دانشگا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رتبه دانشگا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/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85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6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آمريک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/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4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لن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/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0/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/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9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1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علوم پزشکي تهران و دانشگاه ته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7:02Z</dcterms:modified>
  <cp:revision>60</cp:revision>
  <dc:subject/>
  <dc:title>Introduction</dc:title>
</cp:coreProperties>
</file>