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B6D6-5E6C-43A5-8DBD-65F25A723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9EB7-D288-4688-959D-EE3082D46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805B-BDF4-40B6-AB11-EA4AB3213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1ABD-0ED0-45CD-8B79-9BE4F62E2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91C7-FCCF-46EA-B474-DFE18C53D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A031-7D1D-4B6C-87A3-C0E9E0F69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0BC5-371C-4C85-AD47-65B48465D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AEB3-A97B-4018-8A6D-D42F1D5C9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8BA9-791D-4608-BE08-B45CF8EDA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736A-0202-470B-B597-77BDDE33E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971C-CBB8-4476-9786-1A096050C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0E2F-1559-4986-816B-4E1F8A442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8CDB-1976-4696-B987-B88AF0C39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3B4E-8C4F-481F-865F-86D7FE44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CCC4-0C1B-45FA-9849-A8C06A4CC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3851-4B06-4E7C-BB93-32D2D2B00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7838-EF4C-495E-893B-0012F35E1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959E-6CA6-4B26-A148-45696D89B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B113-C55D-4B1F-8323-42E8F7362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FDC9-323F-421F-8776-5B00D8553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9EFE-B497-42FA-972F-95CD06F64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F48E-48C5-4B2C-8353-D6FD0CA0F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68D3-C7B8-4E93-B5C3-9DEA193CE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C5F1-3A80-4010-9114-9658D1A93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DC1B5-1F6F-4825-B9CC-ADB6FA1C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3D3E-71D1-4F63-8A1F-0789113B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415FC-A5CF-447F-8D44-16BBE041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75B7-AA06-498F-84FD-45797948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0FBF-3A78-4EBD-8EB1-4469216B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3469-D917-49E6-976F-9051D387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1202-F557-4C5F-A7D2-5248B75D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8BB1-7BF8-4ACA-969D-0EC0F17C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257F-A530-486C-B67F-2A5257D1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6B7E-BF5C-41B2-8BF0-0AA0D28D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4EA0-280C-438C-B9C6-83EAF956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BC157-61CD-41BA-9BEA-5C1F0433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013A-EFC6-4C64-BED0-5A568C16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8C95-15E4-4B6A-9A1F-E96293F4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C2C7-C53C-46ED-9072-E9A6BCCC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8FDB-C931-42BE-950A-328C0C6D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24EA-4ED2-445C-9B15-3C74278C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9E97-F990-45EE-AC66-B6ED6E39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2B2E-C97F-411B-8549-290DDB84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135D-83C6-4475-AC80-F16C5739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9E4B-6585-4EB8-8601-66C57EDB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28480-0DE3-4DAC-8F3A-1ADA971A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D59D-BB9A-4807-A9D0-4BFD7255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FDC49-E2A2-408F-8D30-35EF3811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0A73-AB5A-4BED-A6C4-5B546588E9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E68F-45B4-4989-AEF0-18485CB145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5520" y="1714680"/>
            <a:ext cx="807228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itle P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str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stract of a results paper should state concisely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ques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hat was ask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was don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o answ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ques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fou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hat answers the ques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answ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o the ques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99680" y="1642680"/>
            <a:ext cx="8433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st journals limit the length of the abstract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(usually to 250 words or les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Uniform Requirements for Manuscripts Submitted to Biomedical Journa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un-structured abstrac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limit the abstract to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150 words or 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f no limit is stated, make your abstract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no longer than the abstracts in recent issu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journ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str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In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stract should provide an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overview of the main sto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few essential -det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stract should b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le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both to reader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who read the pap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o reader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who do not read the pap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0040" y="21718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 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one paragrap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echniques of continuit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ke the paragraph flow. Use signals to indicate the parts of the abstrac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ign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hat you found by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"We found that"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something simi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1565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the answer by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We conclude that" or "Thus"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something similar. Signal implications by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We suggest that"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 something simil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question and what was done can usually be written in one sentence in “the form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To determine X, we. ..."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f the question and what was done are in separate sentences, use signals such a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We asked whether. .."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question) an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To answer this question, we. .."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what was don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53964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resent tens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bs for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 and the ans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ast ten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bs to stat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what was done and what was f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cautious present tense verb for implications (for example, "may mediate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careful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t to omit the ques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not to state the question vaguely, and not to state an implication instead of the answer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004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that the question is specific rather than vague, check the question against the answer: use the same key terms for the independent and dependent variables; keep the same point of view; and, to anticipate the answer , use the same verb in the question as in the answer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give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lue, also give data (for example, mean(SD) and the sample siz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843264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short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oid noun clus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 simple words.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Avoid jargon. Avoid abbrevi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eep the abstract sho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it less important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28400" y="1815840"/>
            <a:ext cx="83581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it details [unnecessary details of methods, exact data (give percent change)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alues, "significantly"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oid repetition (use a category term in what was done and name the variables in what was found; state "mean ::t SD" only onc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ctive voi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o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ssive voi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429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42600" y="1499760"/>
            <a:ext cx="7916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it unnecessary words (use "Thus" instead of "We conclude that"; use an adjective or an apostrophe instead of an "of' phrase: for example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"ductal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ings" instead of "rings of ductus arteriosus,"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"rings'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nsitivity" instead of "sensitivity of the rings"; but do not omit "a," "an," or "the" when they are necessar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cep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journal to which you are submitting a paper requests a different form for the abstract, follow the requested 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716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title page,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e main tit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yped in uppercase and lowercase lett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main title is more than one line,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use a double spa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tween the lin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bbreviated vers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the title is called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unning head(er)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ich may be used for identification of the report on subsequent pa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830680" y="7142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itle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3280" y="357120"/>
            <a:ext cx="7989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Keyword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150012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terms that you would look up to find your own paper and that would attract the readers you hope to rea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current, specific terms, preferably medical subject headings (MeSH), that name important topics in your paper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phrases as well as single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journal asks you to supply only terms that are not in the title of the paper, do 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ecessary, include a term as an indexing term even if the term does not appear in your paper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eck list for Abstr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9680" y="1976400"/>
            <a:ext cx="83581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, methods, results, discu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features mentio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thing that does not appear in full t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s in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: justified? obj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ning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s the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G:\Users\Mine\Desktop\question-mark2a.jpg"/>
          <p:cNvPicPr/>
          <p:nvPr/>
        </p:nvPicPr>
        <p:blipFill>
          <a:blip r:embed="rId1"/>
          <a:stretch/>
        </p:blipFill>
        <p:spPr>
          <a:xfrm>
            <a:off x="2500200" y="1643040"/>
            <a:ext cx="412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64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ame of the author appears on a separate line beneath the tit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inal line of the title page information should b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date on which the pap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as submi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830680" y="836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itle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, course, and datelines should be single-spac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al Breath of a Second-Hand Smok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zie Q. Stu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S212/Law and Eth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1, 20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30680" y="836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itle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6858000" cy="62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unning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uth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responding auth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/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t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                F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Book_signed"/>
          <p:cNvPicPr/>
          <p:nvPr/>
        </p:nvPicPr>
        <p:blipFill>
          <a:blip r:embed="rId1"/>
          <a:stretch/>
        </p:blipFill>
        <p:spPr>
          <a:xfrm>
            <a:off x="7667640" y="5857920"/>
            <a:ext cx="106668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its name suggests, abstrac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ab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+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rahere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pull) should select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(pullout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ighlights from each section of the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 Abstr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840" y="17856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unction of the abstract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o provide an overview of th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overview should present the main story and a few essential details of the paper for readers who rea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l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stract and should serve as both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lear preview and a clear, accurate recapitulation of the main stor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readers who read th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us, the abstract shoul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make sense both when read alone and when read with the pap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lue_book"/>
          <p:cNvPicPr/>
          <p:nvPr/>
        </p:nvPicPr>
        <p:blipFill>
          <a:blip r:embed="rId1"/>
          <a:stretch/>
        </p:blipFill>
        <p:spPr>
          <a:xfrm>
            <a:off x="7451640" y="5867280"/>
            <a:ext cx="13431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Types of Abs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704680"/>
            <a:ext cx="8229600" cy="29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c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s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struc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s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jor finding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broad context of the work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or three senten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opic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results (not all b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most import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es with implications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Dr. Kabiri</cp:lastModifiedBy>
  <dcterms:modified xsi:type="dcterms:W3CDTF">2011-10-04T08:12:30Z</dcterms:modified>
  <cp:revision>56</cp:revision>
  <dc:subject/>
  <dc:title>Introduction</dc:title>
</cp:coreProperties>
</file>