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BE6-AEEA-4B33-B720-603B11CF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619D-5392-4AD7-B720-542095AA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99F-5E01-4CD0-939A-352E460815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2F6-F008-4DB6-9037-A2ED1E3C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580E-2D80-4096-9DC2-2A6F85AD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9EA-F502-47E5-92F8-B0F58FD7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CF5E-36FF-48BF-96B1-2DDB8D13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7C09-5650-4F98-9C71-3B8ABD55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2D4-1967-44EE-8D92-50F190CF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478-B72A-43C7-8EE5-20EC08FC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0E6-F763-4607-81B2-2867B564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F949-8653-49EB-9AA1-32470EAB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16F5-734E-470D-BCC4-7DEF3F97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187-A3AC-4D0D-8EF6-AB05F2F7D4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CE73-11F3-4B61-9FEA-4A46178B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6A08-151D-4FC3-817F-85CC8F9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3CBE-F881-44BC-8E0D-E1CB312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6717-F60D-4DB9-9415-6ED3F00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DCEB-D943-446E-9912-138D5B1A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879-942F-48CA-931E-C26FC7A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5B3A-968F-4A50-A7BC-81DC4B2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097-E1D7-4CFF-AC60-3E85D583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CF9-6E11-4B60-A534-CCA8709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88C4-8023-4190-B8D4-1CCD576A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F73B-CDE1-43FB-8B70-F8C3DFF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5A52-10FF-4115-A7C7-17272A4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CC1D-A8A0-4EAC-8925-9189AAC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787-853D-4126-A5F5-9C4443B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4D4-CF4A-4441-B85F-CEAF39F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49B1-1DEE-441E-872D-186421DC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CFC-F270-4F12-A390-15861726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B2FD-58EE-45F9-B601-DA3263C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E94F-3348-4BC0-B33E-AB31491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C4FB-4360-4C0B-B588-E4DE3C2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780D-2CA8-436B-A26C-61B2D104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362C-3058-4AE4-95A7-B20996D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6338-584A-4CFB-9350-F9ED5B4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E284-975C-4CE6-AC8F-A8869F8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141-AAAC-42FD-B9CA-CEF3F4EC0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5476-27FA-4240-9AD5-1A4DDF954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urnemouth.ac.uk/library/using/guide_to_citing_internet_sour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176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y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1520" y="2050920"/>
            <a:ext cx="8335800" cy="19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(Alpay &amp; Russell, 2002)  Four score and seven years ago our forefathers brought forth a new nation conceived in liberty and dedicated to the proposition that all men are created equal.(Balen &amp; Jewesson, 200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62120" y="4129200"/>
            <a:ext cx="81072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, L., &amp; Russell, A. (2002). Information technology training in primary care: the nurses' voice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mput Inform Nurs, 2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4), 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, R. M., &amp; Jewesson, P. J. (2004). Pharmacist computer skills and needs assessment survey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J Med Internet Res, 6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1), 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85723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for about 30 (25-35)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ent review pap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ppropri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decrease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copy of every 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anuscript and make sure the referenced paper says what you say it does!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n’t use abs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read the reference list especially carefully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of your reviewers may be ci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1 or 2 references p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ppropriat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ver self-c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extbooks &amp; conference abstr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ing to thesis &amp; disser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using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es list of you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arefully, balance author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Note or other bibliograph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 Important Referenc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0040" y="2214360"/>
            <a:ext cx="77248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uthor-Dat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Harvard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Numeric Sty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Vancouver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 sys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te your sources within your text by giving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uthor’s surname(s), year of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(when appropriate) page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ry to popular perception, violent crime has been shown to be decreasing (Johnson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mes and Peters (2003) have argued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7964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references are listed in author/dat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lphabet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LAND, M., 2002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ide to citing Internet sour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online]. Poole: Bournemouth University. Available from: 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bournemouth.ac.uk/library/using/guide_to_citing_internet_sourc.htm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Accessed 4 November 2002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XFORD ENGLISH DICTIONARY, 1989. 2nd ed. Oxford: Clarendon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SCO, 1993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eral information programme and UNISI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Paris: UNESCO, (PGI-93/WS/22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SEMAN, S., ed., 1967. 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telligence and 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Harmondsworth: Pengu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480" y="210348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itation in the text is given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rack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son (1) and Milne (2) take the view that… but other authorities (3) argu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s are list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rd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ibliography, &amp; cited by that number each time they are referred to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20462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ICSON, E.E., 1991. 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apocalyptic vision of Mikhail Bulgakov's ‘The Master and Margarita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ew York: Edwin Mellen, p.1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NE, L., 1977 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The Master and Margarita’: a comedy of victor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irmingham: University of Birmingham, pp.62-3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RATT, A., 1987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tween two worlds: a critical introduction to ‘The Master and Margarita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Oxford: Clarendon Press, p.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ference number points to a single referenc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ncou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81914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Four score and seven years ago our forefathers brought forth a new nation conceived in liberty and dedicated to the proposition that all men are created equal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006800"/>
            <a:ext cx="815328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 L, Russell A. Information technology training in primary care: the nurses' voice. Comput Inform Nur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2;20(4):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 RM, Jewesson PJ. Pharmacist computer skills and needs assessment survey. J Med Internet Re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 29 2004;6(1):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4:37Z</dcterms:modified>
  <cp:revision>40</cp:revision>
  <dc:subject/>
  <dc:title>Introduction</dc:title>
</cp:coreProperties>
</file>