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BC3C-50DE-4F6F-889A-4162CC962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4BBA-75F8-4515-9F03-1623CE337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7D8E-1D8A-4970-B09C-C9E08C0CC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1704-4EAE-4BB1-842F-951ED2543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C9A2-A73E-433A-8466-8D28A5268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89F1-FA93-4A8E-8FD4-2BC43557F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A505-6BAF-4911-A455-4078A7AD1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B9EC-0333-45B8-9440-4AF824C16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BE40-73D6-4FCE-84F5-D9C9C103C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2B2B-61B5-4912-8553-290810EA4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5861-7DAF-4917-B80E-EF659D7A5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6434-3979-4D72-A60E-C1D27B27D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CBA0-38BE-4691-A40F-6E3742D9B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11A9-551F-4545-B715-1C95A1D46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F2C8-E327-4E9C-B54F-7F2F86008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FED1-4726-4633-8F67-374B22A19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64FE-B667-43DB-A960-835A69253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7042-E5D5-4D01-BD97-56DD968E7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EE6D-E881-4FFC-AE27-9752DEF0D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C36E-5134-4AA0-BA3B-C0D74522B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46AF-C171-499A-965B-97125388F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410F-AE6C-4536-AC3B-DB0631507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1E0D-E25F-4F2F-88B3-E8CF73A7D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1D0A-A453-42DB-B75C-2FDE89492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0763-785C-49BF-802E-EE76BE419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C02F-E409-42FA-9C63-67BB9459A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3087-557C-44F0-9031-BD4A0F07C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7D39-D0E5-4D79-B7BE-DB9D7B626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A156-EFCC-4260-A2C1-332B2A71F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D1AB-43AA-4CD3-86A2-01DE24ABD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4514-B93E-489B-9E28-D407826B3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6D56-99F7-4CF7-8AD1-9F6D1A1D9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1B89-A70F-49C7-BA10-22CE29A34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066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CF3D-1165-4EC2-9386-DA27E2E00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066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E2DA-9ABF-4A63-8ADE-BB14CA4C5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87F7-AE72-4D3D-AA4A-B52C09A60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066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81C4-9353-4BFE-A00C-4CFFFB462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7415-6CE9-4A2C-A8C8-D23F29484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F7B0-0014-4C33-AB63-EF47ED4D7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412D-2C6B-42A5-B5E0-D00772CEFD1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3675-0F6E-4CCC-8DFC-B6A6A1CFE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A8A7-EE0C-4965-B9E9-B4DB1700F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F3C7-8C0E-4391-8A07-F6A056A7F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CA0E3-E129-4BAD-BDC5-7BCBEBF2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6F0D-62F5-4ECB-A100-977454C3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54D6F-5B55-424C-8B11-1B4CD653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B50A9-246F-4233-BCF0-09CF1926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089E-C5F5-4557-AD3B-91C6FAD4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872D-AFA5-4B4A-AE2D-8D7F41C8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3EA9-8CEF-4C95-ACE5-86DB3F7F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77F7-F712-4D2D-A12F-FF369C66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9506-0124-4278-96B6-2786DC6F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A405-0292-41F0-9913-134A168D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6641-474E-4B99-AF06-52E45659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B882D-CB87-4CB1-AB62-7A709901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039D-6D4C-4B4E-BF52-D3DB87B1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D5F8-6E47-46D9-821B-41FF9B0B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299D-C6BB-4AB8-92F0-E224FF02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7CF5-EDA9-4ED0-A4D0-407E7312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E28B-53C7-4425-9936-B13F1134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4A04D-20F6-4594-94E2-B327DD18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564CF-4E5A-47BB-9A7F-801F6D3D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A7116-C501-4E0F-ADEF-D6D2EC86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14845-067D-429F-AC6B-FDBA23A8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58B17-4FB2-4252-9D56-BC5B202C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8D5C-C6E6-40D3-94F2-69CF773A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A08BA-7913-490F-BFB1-CB6B1DFB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0157-31E9-49C0-B14D-2FBD75FC6E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697C-2F48-484C-BCE9-0E19F05347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mauicc.hawaii.edu/unit/pace/images/writing.gif&amp;imgrefurl=http://mauicc.hawaii.edu/unit/pace/writn.html&amp;h=364&amp;w=419&amp;prev=/images%3Fq%3Dwriting%26start%3D100%26svnum%3D10%26hl%3Dzh-CN%26lr%3D%26ie%3DUTF-8%26oe%3DUTF-8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0840" y="2356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"/>
                <a:ea typeface="Arabic Transparent"/>
              </a:rPr>
              <a:t>Writing Resul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writ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4286160"/>
            <a:ext cx="2414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A527-44DE-481A-ABB6-56E93F2B7FC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 and Figures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signed numb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ly and in the sequence that you will refer to them from the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Table you refer to is Table 1, the next Table 2 and so fo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ly, the first Figure is Figure 1, the next Figure 2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and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18BE-C3CF-4E48-80DD-60D293762E2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referring to a tab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om the 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"Figure" is abbreviated as Fig.,e.g.,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g.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is never abbreviated, e.g.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ble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and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4535-DFE9-4DB9-B2B3-4B7324789E9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160" y="1559520"/>
            <a:ext cx="1416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Example 1: Courtesy of Shelley Ball.</a:t>
            </a:r>
            <a:br>
              <a:rPr sz="11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196524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-20520" y="1980360"/>
            <a:ext cx="6551280" cy="33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Example 2: Courtesy of Shelley Ball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population_variation_table_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7DF0-7011-4051-9B51-D715345547F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D5BE-C3C1-410A-AC6C-146CFC6CB79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5438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we want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stingu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esult &amp; make 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min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readers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isual presentations of resul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cluding graphs, diagrams, photos, drawings, schematics, map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ap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e mos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on typ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fig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 show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e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tter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relationsh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92C4-902A-46A1-9168-0A24626D3A6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357120" y="2111400"/>
            <a:ext cx="8572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oid clutter (too many numbers or symbo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hould provide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lear statistical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ertica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(“Y”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xis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outcome/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rizonta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(“X”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xis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exposure/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me &amp;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def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each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iv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measurement un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f each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8D7F-EC97-4782-8DC4-047B556CAC0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E40A-77F8-436B-BFAA-15150FE3687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F8EB-BE41-4E23-9F03-33F463EA10B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0AEB-1696-4BCC-B409-AEB0706AF91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85880" y="2071440"/>
            <a:ext cx="7958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impl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Compl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scribe the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popu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tablish how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comparabl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your groups wer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a mixture of text, tables and figu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ntion units of measur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ntion what numbers, brackets, etc. refer 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, 854 (12.3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ring the p val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2833560" y="27558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2833560" y="2286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87DC-7AF3-4AA0-A367-D26FB857C0E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31440" y="20271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mist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and interpretation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igures or t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/materials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-304920" y="-228600"/>
            <a:ext cx="9753840" cy="7315200"/>
            <a:chOff x="-304920" y="-228600"/>
            <a:chExt cx="9753840" cy="7315200"/>
          </a:xfrm>
        </p:grpSpPr>
        <p:pic>
          <p:nvPicPr>
            <p:cNvPr id="181" name="Picture 5" descr=""/>
            <p:cNvPicPr/>
            <p:nvPr/>
          </p:nvPicPr>
          <p:blipFill>
            <a:blip r:embed="rId1"/>
            <a:stretch/>
          </p:blipFill>
          <p:spPr>
            <a:xfrm>
              <a:off x="-304920" y="-228600"/>
              <a:ext cx="975384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6"/>
            <p:cNvSpPr/>
            <p:nvPr/>
          </p:nvSpPr>
          <p:spPr>
            <a:xfrm>
              <a:off x="990720" y="2133720"/>
              <a:ext cx="746748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igure 1. Effect of total alkaloid fraction of methanolic extract on mean survival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-304920" y="-838080"/>
            <a:ext cx="9753840" cy="7315200"/>
            <a:chOff x="-304920" y="-838080"/>
            <a:chExt cx="9753840" cy="7315200"/>
          </a:xfrm>
        </p:grpSpPr>
        <p:pic>
          <p:nvPicPr>
            <p:cNvPr id="186" name="Picture 5" descr=""/>
            <p:cNvPicPr/>
            <p:nvPr/>
          </p:nvPicPr>
          <p:blipFill>
            <a:blip r:embed="rId1"/>
            <a:stretch/>
          </p:blipFill>
          <p:spPr>
            <a:xfrm>
              <a:off x="-304920" y="-838080"/>
              <a:ext cx="975384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6"/>
            <p:cNvSpPr/>
            <p:nvPr/>
          </p:nvSpPr>
          <p:spPr>
            <a:xfrm>
              <a:off x="0" y="5639040"/>
              <a:ext cx="914400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igure 1. Effect of total alkaloid fraction of methanolic extract of unripe fruit of Solanum pseudocapsicum on mean survival time (MST) in tumor bearing mi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6"/>
          <p:cNvSpPr/>
          <p:nvPr/>
        </p:nvSpPr>
        <p:spPr>
          <a:xfrm>
            <a:off x="609480" y="1295280"/>
            <a:ext cx="8153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0" y="144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F4EC-A0EF-4E97-B9ED-D3E74530DAD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thing to avoid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present the same data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ble and Fig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his is considered redundant and a waste of space and energ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ich form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st show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and go throug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report raw data values when they can be summarize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 means, perc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tc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703C-C967-4873-BC64-1421AF62E6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4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4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89120" y="2138400"/>
            <a:ext cx="782136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big words that you do not really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(without statistical evid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incidence and pre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frequency, rate, proportion,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2116080"/>
            <a:ext cx="78915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only enoug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pre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ead the reader from one experiment to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lengthy analysis and comparison to the work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eed to follow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ronology of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, provide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gical progres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ell a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Mitra"/>
              </a:rPr>
              <a:t>گزارش نتايج آما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8760" y="1928880"/>
            <a:ext cx="8339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نوشتن تعداد فراواني همراه با درصدها وقتي تعداد نمونه اندك ا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عدم نياز به نوشتن فرمو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ها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ی حجم نمونه و آزمون‌های آم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ارائه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پارامترهايی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كه آزمون شد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اند مانند ميانگين, نسبت يا درصد, ضريب همبستگي, حتي اگر آزمون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ها معني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دار نشده باش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نوشتن شاخص آزمون و مقدار آن همراه با درجه آزادي و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tra"/>
              </a:rPr>
              <a:t>p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نوشتن مقداردقي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tra"/>
              </a:rPr>
              <a:t>p valu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itra"/>
              </a:rPr>
              <a:t> براي آزمون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هاي معني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دار وغيرمعني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دار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itra"/>
              </a:rPr>
              <a:t>(تا دو رقم اعشا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تعريف كردن علائمي كه براي نتايج معني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دار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ب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ه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كار مي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رو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itra"/>
              </a:rPr>
              <a:t>(مانند ستاره) و ب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ه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كار بردن علائم مشاب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نوشتن اعداد به‌صورت گرد شده با درنظرگرفتن دقت داده‌هاي اوليه (ميانگين تا يك رقم اعشار و انحراف معيار و خطاي معيار تا دو رقم اعشار بيشتر از داده‌هاي خا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درج درصدها تا يك رقم اعشار (گاهي حتي نياز  به ارقام اعشاري هم نيست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نوشتن شاخص‌هايي مانن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tra"/>
              </a:rPr>
              <a:t>t ,r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 تا دو رقم اعشا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144792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Mitra"/>
              </a:rPr>
              <a:t>گزارش نتايج آما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3192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-value in a nut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"/>
          <p:cNvSpPr/>
          <p:nvPr/>
        </p:nvSpPr>
        <p:spPr>
          <a:xfrm>
            <a:off x="2035080" y="4495680"/>
            <a:ext cx="1125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 flipV="1">
            <a:off x="2597040" y="3420720"/>
            <a:ext cx="9720" cy="1684440"/>
          </a:xfrm>
          <a:prstGeom prst="line">
            <a:avLst/>
          </a:prstGeom>
          <a:ln w="1260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698400" y="4267080"/>
            <a:ext cx="1692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 &lt; 0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a statistically significant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754280" y="5105520"/>
            <a:ext cx="18428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Tahoma"/>
              </a:rPr>
              <a:t>p = 0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r 1 in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sult fairly unlikely to be due to ch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435680" y="3279600"/>
            <a:ext cx="783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0                                  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2508120" y="1968480"/>
            <a:ext cx="6559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Could the result have occurred by cha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2174760" y="2340000"/>
            <a:ext cx="19702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he result is </a:t>
            </a:r>
            <a:r>
              <a:rPr b="1" lang="en-GB" sz="1600" spc="-1" strike="noStrike" u="sng">
                <a:solidFill>
                  <a:srgbClr val="0066ff"/>
                </a:solidFill>
                <a:uFillTx/>
                <a:latin typeface="Tahoma"/>
              </a:rPr>
              <a:t>unlikely</a:t>
            </a:r>
            <a:r>
              <a:rPr b="1" lang="en-GB" sz="16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o be due to ch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6783480" y="2340000"/>
            <a:ext cx="18255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he result is </a:t>
            </a:r>
            <a:r>
              <a:rPr b="1" lang="en-GB" sz="1600" spc="-1" strike="noStrike" u="sng">
                <a:solidFill>
                  <a:srgbClr val="0066ff"/>
                </a:solidFill>
                <a:uFillTx/>
                <a:latin typeface="Tahoma"/>
              </a:rPr>
              <a:t>likely</a:t>
            </a:r>
            <a:r>
              <a:rPr b="1" lang="en-GB" sz="16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o be due to ch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2"/>
          <p:cNvGrpSpPr/>
          <p:nvPr/>
        </p:nvGrpSpPr>
        <p:grpSpPr>
          <a:xfrm>
            <a:off x="2311560" y="2999880"/>
            <a:ext cx="6072120" cy="406440"/>
            <a:chOff x="2311560" y="2999880"/>
            <a:chExt cx="6072120" cy="406440"/>
          </a:xfrm>
        </p:grpSpPr>
        <p:sp>
          <p:nvSpPr>
            <p:cNvPr id="216" name="Line 13"/>
            <p:cNvSpPr/>
            <p:nvPr/>
          </p:nvSpPr>
          <p:spPr>
            <a:xfrm>
              <a:off x="2311560" y="3203640"/>
              <a:ext cx="60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4"/>
            <p:cNvSpPr/>
            <p:nvPr/>
          </p:nvSpPr>
          <p:spPr>
            <a:xfrm>
              <a:off x="8383680" y="3121200"/>
              <a:ext cx="0" cy="17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5"/>
            <p:cNvSpPr/>
            <p:nvPr/>
          </p:nvSpPr>
          <p:spPr>
            <a:xfrm>
              <a:off x="2311560" y="3127320"/>
              <a:ext cx="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6"/>
            <p:cNvSpPr/>
            <p:nvPr/>
          </p:nvSpPr>
          <p:spPr>
            <a:xfrm flipV="1">
              <a:off x="5340960" y="299988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17"/>
          <p:cNvSpPr/>
          <p:nvPr/>
        </p:nvSpPr>
        <p:spPr>
          <a:xfrm>
            <a:off x="2088360" y="5470560"/>
            <a:ext cx="320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2749680" y="4284720"/>
            <a:ext cx="1728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 &gt; 0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not a statistically significant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4003560" y="2895480"/>
            <a:ext cx="2673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0"/>
          <p:cNvSpPr/>
          <p:nvPr/>
        </p:nvSpPr>
        <p:spPr>
          <a:xfrm>
            <a:off x="4497480" y="5105520"/>
            <a:ext cx="18428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 =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r 1 i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sult quite likely to be due to ch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4901400" y="5470560"/>
            <a:ext cx="320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2"/>
          <p:cNvSpPr/>
          <p:nvPr/>
        </p:nvSpPr>
        <p:spPr>
          <a:xfrm flipV="1">
            <a:off x="5340240" y="39621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fidence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terval (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914400" y="4300560"/>
            <a:ext cx="7543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range within which the true size of effect (never exactly known) lies, with a given degree of assurance (usually 9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"/>
          <p:cNvGrpSpPr/>
          <p:nvPr/>
        </p:nvGrpSpPr>
        <p:grpSpPr>
          <a:xfrm>
            <a:off x="3165480" y="2624040"/>
            <a:ext cx="2628720" cy="182520"/>
            <a:chOff x="3165480" y="2624040"/>
            <a:chExt cx="2628720" cy="182520"/>
          </a:xfrm>
        </p:grpSpPr>
        <p:sp>
          <p:nvSpPr>
            <p:cNvPr id="229" name="Oval 5"/>
            <p:cNvSpPr/>
            <p:nvPr/>
          </p:nvSpPr>
          <p:spPr>
            <a:xfrm>
              <a:off x="4424040" y="2624040"/>
              <a:ext cx="182880" cy="182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6"/>
            <p:cNvSpPr/>
            <p:nvPr/>
          </p:nvSpPr>
          <p:spPr>
            <a:xfrm>
              <a:off x="3165480" y="2715840"/>
              <a:ext cx="262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Line 7"/>
          <p:cNvSpPr/>
          <p:nvPr/>
        </p:nvSpPr>
        <p:spPr>
          <a:xfrm flipV="1">
            <a:off x="2462040" y="2776320"/>
            <a:ext cx="633600" cy="14475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 flipV="1">
            <a:off x="5838480" y="2776320"/>
            <a:ext cx="631800" cy="14475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eck list for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eline data provi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and other endpoints clear and comple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the text complement figures and 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measures of uncertainty mentioned? (SD, SE, 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s of Writing-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0040" y="200016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ost logical sequence to present the data (not necessarily the order in which you did the experi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report the data - do not include interpretation or comparison to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uplication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elines for Writing Result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udy as it was Condu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680" y="2000160"/>
            <a:ext cx="805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the dates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schematic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characteristics of each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 if the sample is represen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 if randomization was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duration and nature of follow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bservations based on judgment, provide assessment of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delines for Writing Results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udy 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the results for all primary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 statistical finding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actu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tra"/>
              </a:rPr>
              <a:t>p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95% CI 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he main findings in figures or table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 don’t need to also report them in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 confou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72644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Few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rst time you use an abbreviation, define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give the commercial source for a reagent, the first time you cite the source include the location of the company (city and state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sure the subject and verb agree in every sent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ntract. or exclamation poin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Few Rules -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redundancy within the manu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not to use “it” or “they” - be specifi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jar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horter sentences are frequently much more effective than a long, complex 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” is plural not singular, i.e., “the data are…” NOT “ the data is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9126-000D-4BC0-BF34-2354DACB395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n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 not com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resent data with previously published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text of the Results secti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cis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bjec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ssive voi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likely dominate here, but you can use the active voice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Few Rules - continu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ize people’s names, i.e., Golgi appar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, ever plagiarize! (even from yourself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umbers when expressing measurements, except when the number would begin a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760840" y="685800"/>
            <a:ext cx="392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question-mark1a.jpg"/>
          <p:cNvPicPr/>
          <p:nvPr/>
        </p:nvPicPr>
        <p:blipFill>
          <a:blip r:embed="rId1"/>
          <a:stretch/>
        </p:blipFill>
        <p:spPr>
          <a:xfrm>
            <a:off x="2666880" y="1563840"/>
            <a:ext cx="38102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7D35-9A89-418D-9C22-A9C4072D4A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Males (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180.5 ± 5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m; n=34) averaged 12.5 cm taller than females (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168 ± 7.6 c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n=34) in the AY 1995 pool of Biology majors (two-sample t-test, t = 5.78, 33 d.f., p &lt; 0.001)."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j0283860"/>
          <p:cNvPicPr/>
          <p:nvPr/>
        </p:nvPicPr>
        <p:blipFill>
          <a:blip r:embed="rId1"/>
          <a:stretch/>
        </p:blipFill>
        <p:spPr>
          <a:xfrm>
            <a:off x="1295280" y="4572000"/>
            <a:ext cx="2667240" cy="152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9C1A-77DE-49B1-A9BD-182AEAF77D6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and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680" y="1928520"/>
            <a:ext cx="768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using a table to presen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rge amoun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data/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refer to all tables in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g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graphically represent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ignific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Stand alone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otals would reach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 not rep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bles and Figures 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: e.g., there were no significant associa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: e.g. there was a three fold increase in the risk of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 this table in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p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Content Placeholder 3" descr="Table.jpg"/>
          <p:cNvPicPr/>
          <p:nvPr/>
        </p:nvPicPr>
        <p:blipFill>
          <a:blip r:embed="rId1"/>
          <a:stretch/>
        </p:blipFill>
        <p:spPr>
          <a:xfrm>
            <a:off x="457200" y="2201760"/>
            <a:ext cx="82296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4786-818A-4D39-9587-E96E5052FC1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211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able or Figure must include a brief description of the results being presented and other necessary information in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tles &amp; lege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able Tit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able; as table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ad from top to bott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gure Titles go be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gure; as figures are usuall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iewed from bottom to 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and Figures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it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6-12-04T05:15:10Z</dcterms:modified>
  <cp:revision>56</cp:revision>
  <dc:subject/>
  <dc:title>Introduction</dc:title>
</cp:coreProperties>
</file>