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B564-279B-40E5-AE6F-85E3D2665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926F-5FDA-42C3-BF78-403A69B35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220E-BD4F-4346-BD33-EC015B0E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4970-0A80-478E-9F56-7F6867E7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9119-EB45-4E51-9AB0-B4A92D91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23D4-0D86-48E6-9985-B91080C03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2F8A-7D19-4B49-B65C-946FBC09C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B619-C1C7-40C4-8CF4-0AE1DFB5D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1009-D98A-4335-95E5-42B67631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F63D-B751-441E-8765-B3D3A1BEE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45E8-59EF-48F9-97A4-7C80F122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757F-F3EE-48BD-8861-AB5F031EF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119-998F-4853-B961-4A61C52C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8778-E295-42F1-916E-F29A5BAA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E88-ECA5-46B9-89C7-46159F19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8C09-C5F7-4F12-94D9-3E3156439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0750-7ADF-4DBA-A70B-185249837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D951-4B5E-4B69-8904-2E5C2F9A92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2858-36A8-4998-BE79-F8142AB2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8DE8-96C2-4624-BC2E-BE14D7CC3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65C5-4A14-432A-8A73-FC58834EB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26F9-ED76-4A5F-92AF-17C586248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828C-ED6A-4563-9407-265D5CA7B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FE8E-43C4-4445-BC9C-FA6501A7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D614-F256-4E26-95F1-20163796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E7AD-8F3A-4E1E-9FE7-738691EE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03DF-1717-4DA3-88A2-8BE541F03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54AF-DBDA-44D9-BE0E-91F331AA2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47D1-1D64-41C8-91DB-F732EC74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ublishing Addiction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AF0A-1AAE-48B9-AF0F-0EA53D45880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EFCE-20C9-4892-849F-EAEBC75AA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73A7-FBAF-47D3-BF21-B92D7694E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371F-3569-42A3-906A-83DACDB28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D1F0-8E17-4BC7-950E-D399D8BC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9FCB-F4AB-4A31-9A6F-E43E8DBF7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91CE-31B4-4B0A-BFDF-68823B26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9820-4999-4548-AC62-FAF130701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A275-88BB-4AA3-BD8A-8E34A47D1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ADA9-FB16-4B52-8BBA-D17F2C4F2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E468-AAAB-4156-A11A-3E67C84C5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40BC-1C5F-4088-A74D-DFCEA4B04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E9A5-602E-4CB1-A5B7-95AA325BD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1D89-91F0-45DE-A171-BD2B1D89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275E-B11C-4E22-A6C1-F4F4957C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7FAC-F0B2-4D69-9E15-9450EDBF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1546-E068-48DC-913D-79656FB9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7BF9-E0BC-4272-8CC5-3EE02617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9B60-FA39-49C3-880F-E5C7CF5B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D19A-AC38-4661-9975-B62C741A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2299-B3DF-4DAA-8F45-7998C256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274F-39FD-4DAD-A6A1-9418B636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C973-356F-47D5-B74F-D21A56A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98C2-2CD8-437C-8452-F4E1F67A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BE27-DAA8-4EE4-8CC7-20C7DD9E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B058-FFD3-4CDD-82DC-0F2F900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CFBC-BB39-47E7-ADDC-2DE89AD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FF67-07CF-4E90-AC10-6A0E7F29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7898-22FE-43B7-9318-2EAD2A2F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816A-9CDF-4C2E-9366-FF0696B7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08A0-2694-4BF2-A4C1-F6941BD1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B84B-5921-4CD4-BE0D-69CE573B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CDA6-7742-4CE8-BFD1-1F860421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5F8F-4F43-4992-ABAD-5D013E4F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3A32-EA38-4B2B-8242-63DFC27F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6C8A-183B-49C3-8119-579C2ADB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E766-2E54-405B-8487-6E2F2F1E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3E2E-6384-4C0D-A0D5-0C182A2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B0EC-6156-48D6-BDA7-6B123082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14757-4EF7-47A5-AA53-8873EA9F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AEDE-D765-426B-92DD-DA6B5D7A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4568-2CB1-40FA-8AAE-9AFA5857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D6A6-4B02-44DB-878B-1970B1EE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9B2D-DD78-4E6C-893D-E1528872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620B9-1EA0-4E6F-A00A-DF7BE538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A908-E1B9-4AFB-B60D-31ACA879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FFCB-CA90-44F2-8922-DB3E481E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F090-2EE9-4FBA-9893-5E9FD498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D871-879F-488F-A440-B2F5DBBB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8963-42D2-4558-9F80-5BD0F2DDD8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487D-89D6-4F9A-9C51-4D11A8F2D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534F-A0B2-4565-9BF9-A6EFEBD00E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jcr.clarivate.com/" TargetMode="External"/><Relationship Id="rId2" Type="http://schemas.openxmlformats.org/officeDocument/2006/relationships/hyperlink" Target="https://jcr.clarivate.com/" TargetMode="External"/><Relationship Id="rId3" Type="http://schemas.openxmlformats.org/officeDocument/2006/relationships/hyperlink" Target="https://jcr.clarivate.com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8800" y="1857240"/>
            <a:ext cx="769608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abic Transparent"/>
              </a:rPr>
              <a:t>Where to Publish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abic Transparent"/>
              </a:rPr>
              <a:t> our Research Pap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abic Transparent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400" y="1785600"/>
            <a:ext cx="83055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by Elsevier Science Publishers, Nether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of Journa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5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uropean in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aur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s own thesa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Cover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ong on Pharmaceutical and Clinical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Index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s, Editorials, Research Articles from 1974 or 1981 onwards (depending on method of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 with MEDLINE estimated at between 25 and 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% of References contain Abs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pdated Weekly and is about 4 weeks 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mbase &amp; Med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pproximately 50% over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verage: Medline 1966-; Embase 1984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rminology differs e.g. back pain/back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mits –differences; Medline has more e.g. Publication type - R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600" y="685440"/>
            <a:ext cx="85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 versions of electron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2055600"/>
            <a:ext cx="89154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Index Medicu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rint version o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MEDLI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Excerpta Medic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rint version o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EMB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Science Citation Inde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rint version o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eb of Sc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3962520"/>
          <a:ext cx="8153280" cy="2498760"/>
        </p:xfrm>
        <a:graphic>
          <a:graphicData uri="http://schemas.openxmlformats.org/drawingml/2006/table">
            <a:tbl>
              <a:tblPr/>
              <a:tblGrid>
                <a:gridCol w="4076640"/>
                <a:gridCol w="2036880"/>
                <a:gridCol w="20397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ed ver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ver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87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6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4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7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Citation 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1080"/>
            <a:ext cx="84009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atabase name provid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nstitute of Scientific Information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ous in our country 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SI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name now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rivate Analytics, No ISI availabl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of Sciences is the same database that we calculate the Journal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it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oogle Sch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http://scholar.google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journal is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means it should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vice ver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conf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I Master list Journa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of Science indexed ab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4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ur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400" y="549000"/>
            <a:ext cx="8389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Journal Impact Facto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28760" y="1928520"/>
            <a:ext cx="81439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primarily invented to screen thos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high qualit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urnals into be included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SI Web of Sci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verage citation frequency for articles published in a jour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how many tim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 average, during the study year the articles that appeared in the 2 preceding years of that journal received citations in othe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ISI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exed journals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1495440" y="1143000"/>
            <a:ext cx="7162560" cy="1523880"/>
            <a:chOff x="1495440" y="1143000"/>
            <a:chExt cx="7162560" cy="1523880"/>
          </a:xfrm>
        </p:grpSpPr>
        <p:sp>
          <p:nvSpPr>
            <p:cNvPr id="198" name="Rectangle 3"/>
            <p:cNvSpPr/>
            <p:nvPr/>
          </p:nvSpPr>
          <p:spPr>
            <a:xfrm>
              <a:off x="1495440" y="1143000"/>
              <a:ext cx="2387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4"/>
            <p:cNvSpPr/>
            <p:nvPr/>
          </p:nvSpPr>
          <p:spPr>
            <a:xfrm>
              <a:off x="3882960" y="1143000"/>
              <a:ext cx="2387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6270480" y="1143000"/>
              <a:ext cx="2387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1" name="Object 2"/>
          <p:cNvGraphicFramePr/>
          <p:nvPr/>
        </p:nvGraphicFramePr>
        <p:xfrm>
          <a:off x="6524640" y="1571760"/>
          <a:ext cx="7128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1571760"/>
                    <a:ext cx="712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7"/>
          <p:cNvSpPr/>
          <p:nvPr/>
        </p:nvSpPr>
        <p:spPr>
          <a:xfrm>
            <a:off x="210492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61952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98184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1495440" y="4967280"/>
            <a:ext cx="5562360" cy="533520"/>
            <a:chOff x="1495440" y="4967280"/>
            <a:chExt cx="5562360" cy="533520"/>
          </a:xfrm>
        </p:grpSpPr>
        <p:graphicFrame>
          <p:nvGraphicFramePr>
            <p:cNvPr id="207" name="Object 3"/>
            <p:cNvGraphicFramePr/>
            <p:nvPr/>
          </p:nvGraphicFramePr>
          <p:xfrm>
            <a:off x="1495440" y="4967280"/>
            <a:ext cx="453960" cy="53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95440" y="4967280"/>
                      <a:ext cx="4539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Text Box 12"/>
            <p:cNvSpPr/>
            <p:nvPr/>
          </p:nvSpPr>
          <p:spPr>
            <a:xfrm>
              <a:off x="2104920" y="5051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Source paper – published in 20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13" descr=""/>
          <p:cNvPicPr/>
          <p:nvPr/>
        </p:nvPicPr>
        <p:blipFill>
          <a:blip r:embed="rId5"/>
          <a:stretch/>
        </p:blipFill>
        <p:spPr>
          <a:xfrm>
            <a:off x="1495440" y="5614920"/>
            <a:ext cx="393840" cy="4572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2104920" y="565956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ited reference – published in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1495440" y="6186600"/>
            <a:ext cx="5334120" cy="457200"/>
            <a:chOff x="1495440" y="6186600"/>
            <a:chExt cx="5334120" cy="457200"/>
          </a:xfrm>
        </p:grpSpPr>
        <p:pic>
          <p:nvPicPr>
            <p:cNvPr id="213" name="Picture 16" descr=""/>
            <p:cNvPicPr/>
            <p:nvPr/>
          </p:nvPicPr>
          <p:blipFill>
            <a:blip r:embed="rId6"/>
            <a:stretch/>
          </p:blipFill>
          <p:spPr>
            <a:xfrm>
              <a:off x="1495440" y="6186600"/>
              <a:ext cx="393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7"/>
            <p:cNvSpPr/>
            <p:nvPr/>
          </p:nvSpPr>
          <p:spPr>
            <a:xfrm>
              <a:off x="2104920" y="6231240"/>
              <a:ext cx="47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ited reference – published in 2016 or 20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1571760" y="4562640"/>
            <a:ext cx="2214360" cy="368280"/>
            <a:chOff x="1571760" y="4562640"/>
            <a:chExt cx="2214360" cy="368280"/>
          </a:xfrm>
        </p:grpSpPr>
        <p:grpSp>
          <p:nvGrpSpPr>
            <p:cNvPr id="216" name="Group 19"/>
            <p:cNvGrpSpPr/>
            <p:nvPr/>
          </p:nvGrpSpPr>
          <p:grpSpPr>
            <a:xfrm>
              <a:off x="1571760" y="4643280"/>
              <a:ext cx="309600" cy="142560"/>
              <a:chOff x="1571760" y="4643280"/>
              <a:chExt cx="309600" cy="142560"/>
            </a:xfrm>
          </p:grpSpPr>
          <p:sp>
            <p:nvSpPr>
              <p:cNvPr id="217" name="Line 20"/>
              <p:cNvSpPr/>
              <p:nvPr/>
            </p:nvSpPr>
            <p:spPr>
              <a:xfrm>
                <a:off x="1576800" y="4643280"/>
                <a:ext cx="30456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571760" y="4785840"/>
                <a:ext cx="30492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22"/>
            <p:cNvSpPr/>
            <p:nvPr/>
          </p:nvSpPr>
          <p:spPr>
            <a:xfrm>
              <a:off x="2185920" y="45626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3"/>
          <p:cNvSpPr/>
          <p:nvPr/>
        </p:nvSpPr>
        <p:spPr>
          <a:xfrm>
            <a:off x="6296040" y="7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Immediac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3705120" y="327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pact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3" descr=""/>
          <p:cNvPicPr/>
          <p:nvPr/>
        </p:nvPicPr>
        <p:blipFill>
          <a:blip r:embed="rId7"/>
          <a:stretch/>
        </p:blipFill>
        <p:spPr>
          <a:xfrm>
            <a:off x="7881840" y="1643040"/>
            <a:ext cx="590760" cy="685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4" descr=""/>
          <p:cNvPicPr/>
          <p:nvPr/>
        </p:nvPicPr>
        <p:blipFill>
          <a:blip r:embed="rId8"/>
          <a:stretch/>
        </p:blipFill>
        <p:spPr>
          <a:xfrm>
            <a:off x="4848120" y="1600200"/>
            <a:ext cx="590760" cy="68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5" descr=""/>
          <p:cNvPicPr/>
          <p:nvPr/>
        </p:nvPicPr>
        <p:blipFill>
          <a:blip r:embed="rId9"/>
          <a:stretch/>
        </p:blipFill>
        <p:spPr>
          <a:xfrm>
            <a:off x="2381400" y="1571760"/>
            <a:ext cx="590400" cy="685800"/>
          </a:xfrm>
          <a:prstGeom prst="rect">
            <a:avLst/>
          </a:prstGeom>
          <a:ln w="0">
            <a:noFill/>
          </a:ln>
        </p:spPr>
      </p:pic>
      <p:cxnSp>
        <p:nvCxnSpPr>
          <p:cNvPr id="225" name="AutoShape 46"/>
          <p:cNvCxnSpPr/>
          <p:nvPr/>
        </p:nvCxnSpPr>
        <p:spPr>
          <a:xfrm flipH="1" rot="16200000">
            <a:off x="7345800" y="963360"/>
            <a:ext cx="153000" cy="1081800"/>
          </a:xfrm>
          <a:prstGeom prst="curvedConnector5">
            <a:avLst>
              <a:gd name="adj1" fmla="val -586320"/>
              <a:gd name="adj2" fmla="val 50000"/>
              <a:gd name="adj3" fmla="val -586320"/>
            </a:avLst>
          </a:prstGeom>
          <a:ln w="10152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226" name="AutoShape 47"/>
          <p:cNvCxnSpPr/>
          <p:nvPr/>
        </p:nvCxnSpPr>
        <p:spPr>
          <a:xfrm flipH="1" rot="16200000">
            <a:off x="6597720" y="929880"/>
            <a:ext cx="2160" cy="3139200"/>
          </a:xfrm>
          <a:prstGeom prst="curvedConnector5">
            <a:avLst>
              <a:gd name="adj1" fmla="val 61600000"/>
              <a:gd name="adj2" fmla="val 49994"/>
              <a:gd name="adj3" fmla="val 61600000"/>
            </a:avLst>
          </a:prstGeom>
          <a:ln w="10152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27" name="AutoShape 48"/>
          <p:cNvCxnSpPr/>
          <p:nvPr/>
        </p:nvCxnSpPr>
        <p:spPr>
          <a:xfrm flipH="1" rot="16200000">
            <a:off x="5444280" y="-222480"/>
            <a:ext cx="2160" cy="5444280"/>
          </a:xfrm>
          <a:prstGeom prst="curvedConnector5">
            <a:avLst>
              <a:gd name="adj1" fmla="val 104500000"/>
              <a:gd name="adj2" fmla="val 50000"/>
              <a:gd name="adj3" fmla="val 104500000"/>
            </a:avLst>
          </a:prstGeom>
          <a:ln w="10152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28" name="AutoShape 49"/>
          <p:cNvCxnSpPr/>
          <p:nvPr/>
        </p:nvCxnSpPr>
        <p:spPr>
          <a:xfrm flipH="1" flipV="1" rot="5400000">
            <a:off x="4578480" y="-1064160"/>
            <a:ext cx="123120" cy="7149240"/>
          </a:xfrm>
          <a:prstGeom prst="curvedConnector5">
            <a:avLst>
              <a:gd name="adj1" fmla="val -1625806"/>
              <a:gd name="adj2" fmla="val 50000"/>
              <a:gd name="adj3" fmla="val -1625806"/>
            </a:avLst>
          </a:prstGeom>
          <a:ln w="7632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29" name="Text Box 50"/>
          <p:cNvSpPr/>
          <p:nvPr/>
        </p:nvSpPr>
        <p:spPr>
          <a:xfrm>
            <a:off x="357120" y="3633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ed ½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680" y="1143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168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7"/>
          <p:cNvGrpSpPr/>
          <p:nvPr/>
        </p:nvGrpSpPr>
        <p:grpSpPr>
          <a:xfrm>
            <a:off x="428400" y="1143000"/>
            <a:ext cx="152640" cy="1523880"/>
            <a:chOff x="428400" y="1143000"/>
            <a:chExt cx="152640" cy="1523880"/>
          </a:xfrm>
        </p:grpSpPr>
        <p:sp>
          <p:nvSpPr>
            <p:cNvPr id="233" name="Line 28"/>
            <p:cNvSpPr/>
            <p:nvPr/>
          </p:nvSpPr>
          <p:spPr>
            <a:xfrm flipH="1">
              <a:off x="428400" y="1143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28400" y="1295280"/>
              <a:ext cx="152640" cy="304920"/>
              <a:chOff x="428400" y="1295280"/>
              <a:chExt cx="152640" cy="304920"/>
            </a:xfrm>
          </p:grpSpPr>
          <p:sp>
            <p:nvSpPr>
              <p:cNvPr id="235" name="Line 30"/>
              <p:cNvSpPr/>
              <p:nvPr/>
            </p:nvSpPr>
            <p:spPr>
              <a:xfrm>
                <a:off x="428760" y="129528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31"/>
              <p:cNvSpPr/>
              <p:nvPr/>
            </p:nvSpPr>
            <p:spPr>
              <a:xfrm flipH="1">
                <a:off x="428400" y="144756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2"/>
            <p:cNvGrpSpPr/>
            <p:nvPr/>
          </p:nvGrpSpPr>
          <p:grpSpPr>
            <a:xfrm>
              <a:off x="428400" y="1904760"/>
              <a:ext cx="152640" cy="304560"/>
              <a:chOff x="428400" y="1904760"/>
              <a:chExt cx="152640" cy="304560"/>
            </a:xfrm>
          </p:grpSpPr>
          <p:sp>
            <p:nvSpPr>
              <p:cNvPr id="238" name="Line 33"/>
              <p:cNvSpPr/>
              <p:nvPr/>
            </p:nvSpPr>
            <p:spPr>
              <a:xfrm flipH="1" flipV="1">
                <a:off x="428400" y="190476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V="1">
                <a:off x="428760" y="20570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5"/>
            <p:cNvGrpSpPr/>
            <p:nvPr/>
          </p:nvGrpSpPr>
          <p:grpSpPr>
            <a:xfrm>
              <a:off x="428400" y="1599840"/>
              <a:ext cx="152640" cy="304560"/>
              <a:chOff x="428400" y="1599840"/>
              <a:chExt cx="152640" cy="304560"/>
            </a:xfrm>
          </p:grpSpPr>
          <p:sp>
            <p:nvSpPr>
              <p:cNvPr id="241" name="Line 36"/>
              <p:cNvSpPr/>
              <p:nvPr/>
            </p:nvSpPr>
            <p:spPr>
              <a:xfrm flipH="1" flipV="1">
                <a:off x="428400" y="15998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7"/>
              <p:cNvSpPr/>
              <p:nvPr/>
            </p:nvSpPr>
            <p:spPr>
              <a:xfrm flipV="1">
                <a:off x="428760" y="17524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8"/>
            <p:cNvGrpSpPr/>
            <p:nvPr/>
          </p:nvGrpSpPr>
          <p:grpSpPr>
            <a:xfrm>
              <a:off x="428400" y="2209680"/>
              <a:ext cx="152640" cy="304560"/>
              <a:chOff x="428400" y="2209680"/>
              <a:chExt cx="152640" cy="304560"/>
            </a:xfrm>
          </p:grpSpPr>
          <p:sp>
            <p:nvSpPr>
              <p:cNvPr id="244" name="Line 39"/>
              <p:cNvSpPr/>
              <p:nvPr/>
            </p:nvSpPr>
            <p:spPr>
              <a:xfrm flipH="1" flipV="1">
                <a:off x="428400" y="22096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40"/>
              <p:cNvSpPr/>
              <p:nvPr/>
            </p:nvSpPr>
            <p:spPr>
              <a:xfrm flipV="1">
                <a:off x="428760" y="236196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428760" y="25146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42"/>
          <p:cNvSpPr/>
          <p:nvPr/>
        </p:nvSpPr>
        <p:spPr>
          <a:xfrm>
            <a:off x="647640" y="15238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Previous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ula &amp;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33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re is a journal, published some papers in 2016 &amp; 201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1680" y="3571920"/>
          <a:ext cx="7786440" cy="1503360"/>
        </p:xfrm>
        <a:graphic>
          <a:graphicData uri="http://schemas.openxmlformats.org/drawingml/2006/table">
            <a:tbl>
              <a:tblPr/>
              <a:tblGrid>
                <a:gridCol w="4000320"/>
                <a:gridCol w="1285920"/>
                <a:gridCol w="1285920"/>
                <a:gridCol w="1214280"/>
              </a:tblGrid>
              <a:tr h="51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otal Papers Publis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itations Achieved in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1" descr=""/>
          <p:cNvPicPr/>
          <p:nvPr/>
        </p:nvPicPr>
        <p:blipFill>
          <a:blip r:embed="rId1"/>
          <a:stretch/>
        </p:blipFill>
        <p:spPr>
          <a:xfrm>
            <a:off x="1285920" y="5610240"/>
            <a:ext cx="61070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Factor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6760" y="2214360"/>
            <a:ext cx="8458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in the current JCR year to articles published in the previou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yea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umber of artic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in the previous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tations in 201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ticles published in 2016 +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2016 + 2017 Paper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6"/>
          <p:cNvSpPr/>
          <p:nvPr/>
        </p:nvSpPr>
        <p:spPr>
          <a:xfrm>
            <a:off x="1371600" y="52452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session’s Cont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09640" y="198108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مجلات علوم پزشکي، تقسيم‌بندي و انو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معرفي انواع نمايه‌نامه‌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نمايه‌نامه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نمايه‌نام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Med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ضريب اثر مجل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itra"/>
              </a:rPr>
              <a:t>Impact Factor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 و بازيابي آ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مجلات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 دسترسي با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itra"/>
              </a:rPr>
              <a:t>Ope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بانک اطلاعات نشريات داخ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انتخاب مجله مناس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71520" y="428400"/>
            <a:ext cx="8670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Journal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mpact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71520" y="2373120"/>
            <a:ext cx="8415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Journal Impact Facto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calculated for those journals only which are indexed &amp; included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Web of Sci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bases, NOT more,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SI Indexing              Having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cep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4"/>
          <p:cNvCxnSpPr/>
          <p:nvPr/>
        </p:nvCxnSpPr>
        <p:spPr>
          <a:xfrm flipH="1" flipV="1">
            <a:off x="4056840" y="4742640"/>
            <a:ext cx="142956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lg"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Find Impact Fac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47140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atabase which contain the Journal Impact Factors i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Journal Citation Repor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breviated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JC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ly fro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urnal Citation Repo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through IS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Excel Datasheets, prepared especially for this ma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our related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ournals Impact Facto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00200" y="2595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lick Here for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atest IF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li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owse By Jour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left box of the brought page, select your subject categories of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lick on the              at the butto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4"/>
          <a:stretch/>
        </p:blipFill>
        <p:spPr>
          <a:xfrm>
            <a:off x="4316400" y="4714920"/>
            <a:ext cx="9414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438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29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4691160" y="2122560"/>
            <a:ext cx="3657600" cy="9144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00b084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2481120" y="2351160"/>
            <a:ext cx="3048120" cy="485640"/>
          </a:xfrm>
          <a:custGeom>
            <a:avLst/>
            <a:gdLst>
              <a:gd name="textAreaLeft" fmla="*/ 476280 w 3048120"/>
              <a:gd name="textAreaRight" fmla="*/ 2667240 w 30481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29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880920" y="1741320"/>
            <a:ext cx="1524240" cy="1905120"/>
          </a:xfrm>
          <a:prstGeom prst="foldedCorner">
            <a:avLst>
              <a:gd name="adj" fmla="val 12500"/>
            </a:avLst>
          </a:prstGeom>
          <a:solidFill>
            <a:srgbClr val="e7e7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Manu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804960" y="6858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pen Access M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83640" y="5211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Resu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/>
          <p:cNvSpPr/>
          <p:nvPr/>
        </p:nvSpPr>
        <p:spPr>
          <a:xfrm>
            <a:off x="2481120" y="2808360"/>
            <a:ext cx="4800600" cy="533160"/>
          </a:xfrm>
          <a:custGeom>
            <a:avLst/>
            <a:gdLst>
              <a:gd name="textAreaLeft" fmla="*/ 915480 w 4800600"/>
              <a:gd name="textAreaRight" fmla="*/ 3103560 w 48006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39" hR="21600" stAng="10800000" swAng="-5400000"/>
                <a:lnTo>
                  <a:pt x="9845" y="21600"/>
                </a:lnTo>
                <a:arcTo wR="8239" hR="21600" stAng="5400000" swAng="-1612984"/>
                <a:lnTo>
                  <a:pt x="19945" y="12986"/>
                </a:lnTo>
                <a:lnTo>
                  <a:pt x="17280" y="0"/>
                </a:lnTo>
                <a:lnTo>
                  <a:pt x="11305" y="12986"/>
                </a:lnTo>
                <a:lnTo>
                  <a:pt x="14822" y="12986"/>
                </a:lnTo>
                <a:arcTo wR="8239" hR="21600" stAng="3787016" swAng="1484631"/>
                <a:lnTo>
                  <a:pt x="9042" y="21497"/>
                </a:lnTo>
                <a:arcTo wR="8239" hR="21600" stAng="5528353" swAng="5271647"/>
                <a:close/>
              </a:path>
              <a:path fill="darkenLess" w="21600" h="21600">
                <a:moveTo>
                  <a:pt x="0" y="0"/>
                </a:moveTo>
                <a:arcTo wR="8239" hR="21600" stAng="10800000" swAng="-5400000"/>
                <a:lnTo>
                  <a:pt x="9845" y="21600"/>
                </a:lnTo>
                <a:arcTo wR="8239" hR="21600" stAng="5400000" swAng="128353"/>
                <a:lnTo>
                  <a:pt x="9042" y="21497"/>
                </a:lnTo>
                <a:arcTo wR="8239" hR="21600" stAng="5528353" swAng="5271647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4005360" y="318924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2473200" y="3570120"/>
            <a:ext cx="49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Author pays small amount of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or rather, institution pays on author’s be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7"/>
          <p:cNvGrpSpPr/>
          <p:nvPr/>
        </p:nvGrpSpPr>
        <p:grpSpPr>
          <a:xfrm>
            <a:off x="2295000" y="4906800"/>
            <a:ext cx="5672520" cy="1266840"/>
            <a:chOff x="2295000" y="4906800"/>
            <a:chExt cx="5672520" cy="1266840"/>
          </a:xfrm>
        </p:grpSpPr>
        <p:sp>
          <p:nvSpPr>
            <p:cNvPr id="276" name="Rectangle 8"/>
            <p:cNvSpPr/>
            <p:nvPr/>
          </p:nvSpPr>
          <p:spPr>
            <a:xfrm>
              <a:off x="4309920" y="4906800"/>
              <a:ext cx="36576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Verdana"/>
                </a:rPr>
                <a:t>Everyone has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Verdana"/>
                </a:rPr>
                <a:t>All use is fair use</a:t>
              </a:r>
              <a:r>
                <a:rPr b="0" lang="en-GB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2295000" y="4982760"/>
              <a:ext cx="1726200" cy="1190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</a:rPr>
                <a:t>OP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r>
                <a:rPr b="1" lang="en-US" sz="3200" spc="-1" strike="noStrike">
                  <a:solidFill>
                    <a:srgbClr val="ffffff"/>
                  </a:solidFill>
                  <a:latin typeface="Verdana"/>
                </a:rPr>
                <a:t>CCE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Open Access publis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Med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bMed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blic Library of Sci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Journal of Medical Intern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 Open Access achiev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oM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nt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ing the business model: removing subscription charges and introducing article processing charges, whilst allowing authors to keep the copyright to their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le processing charge of £1000-2000 per published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ver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lour charges or other ‘hidden’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further financed by some advertising, BioMed Central’s Institutional Membership Program and value-added subscript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 Access publishing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0964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one` with Internet access can freely read the papers, no need to worry about sub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Visibility = Maximum impa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d Central’s papers average &gt;200 downloads per article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hance of being c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ystem for submission, peer review and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on the day of 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age 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without delay in PubMed and deposited without embargo in PubMed Central and other secur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304920" y="5202360"/>
            <a:ext cx="83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Verdana"/>
              </a:rPr>
              <a:t>Full Peer Review • Immediate Publication • Open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C:\Documents and Settings\janv\Desktop\BMC.Front.logo.tif"/>
          <p:cNvPicPr/>
          <p:nvPr/>
        </p:nvPicPr>
        <p:blipFill>
          <a:blip r:embed="rId1"/>
          <a:srcRect l="0" t="5435" r="0" b="0"/>
          <a:stretch/>
        </p:blipFill>
        <p:spPr>
          <a:xfrm>
            <a:off x="1828800" y="808200"/>
            <a:ext cx="540396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edical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400,000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0,000 Active Jour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,000 Active &amp; Valid Biomedical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Millions of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ioMed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ringer-Nature publisher sinc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out 200 open access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y already having impac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stigious publ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, pressure on Thomson/ISI for inclusion in the journal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ticle processing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000-2000 € (depending on the jour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me still free (the newest, 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www.doaj.org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Content Placeholder 6" descr="1.jpg"/>
          <p:cNvPicPr/>
          <p:nvPr/>
        </p:nvPicPr>
        <p:blipFill>
          <a:blip r:embed="rId1"/>
          <a:stretch/>
        </p:blipFill>
        <p:spPr>
          <a:xfrm>
            <a:off x="380880" y="2133720"/>
            <a:ext cx="84567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estions to answer in choosing a journal for paper sub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28400" y="2060640"/>
            <a:ext cx="839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al or international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udi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angu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taba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dexes Jour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disciplinary o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pecial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journ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ournal’s conten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rea/scop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ces of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ccepta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bout 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mpact fac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actical matters (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ime to publi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Pub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Content Placeholder 3" descr="0.gif"/>
          <p:cNvPicPr/>
          <p:nvPr/>
        </p:nvPicPr>
        <p:blipFill>
          <a:blip r:embed="rId1"/>
          <a:stretch/>
        </p:blipFill>
        <p:spPr>
          <a:xfrm>
            <a:off x="490680" y="1947960"/>
            <a:ext cx="8153280" cy="4190760"/>
          </a:xfrm>
          <a:prstGeom prst="rect">
            <a:avLst/>
          </a:prstGeom>
          <a:ln w="0">
            <a:noFill/>
          </a:ln>
        </p:spPr>
      </p:pic>
      <p:sp>
        <p:nvSpPr>
          <p:cNvPr id="294" name="Rounded Rectangle 4"/>
          <p:cNvSpPr/>
          <p:nvPr/>
        </p:nvSpPr>
        <p:spPr>
          <a:xfrm>
            <a:off x="719280" y="2500200"/>
            <a:ext cx="1523880" cy="100008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ider practical aspec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99680" y="2209680"/>
            <a:ext cx="8286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urna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quency &amp; publica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er reviewed &amp;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cceptance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journa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ulk of articles in 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urna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ccepta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5640" y="7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 or Another Language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214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factor (English journals typically 3.0, single other language about 0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n English speaking colleague, not a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journals will help with copyediting but reviewers need readable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langua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international audience: English is probably the language of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: Publish in several languages (with editors’ perm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national audiences: publish in the language of the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the following for Ministry of Health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roved Journals: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http://journals.research.ac.i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ider your chances of being accep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42960" y="2214720"/>
            <a:ext cx="8143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ance rates: English language: 15 - 95%,      non-English: 25 -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: many journals do not know their acceptance rates or do not want to st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ance depends on quality and style of the article and administrative resources of the journal (some journals may help with text and language edi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09480" y="62485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013360" y="6031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ider, but do not be fooled by, the Journal Impact Factor (JI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IF is determined by the frequency at which articles in that journal were c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impact journals have more prestige, but JIF depends on other things, like number of co-authors and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English journals are at a dis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mber of databases indexing the journal will determine who sees abstract of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ee where a journal is index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eck in which database a journal is indexed &amp; where we can find its full text, search your journal name in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ource Fin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ttp://rsf.research.ac.i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Databa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mprehensive OR Core Databa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9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ized Databa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ubjects Specified Databa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nd choosing an appropriate journal to Subm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to look for the jour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agues’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ranian Medical Journals Database at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ournals.research.ac.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378000" y="1628640"/>
            <a:ext cx="8388000" cy="51721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4"/>
          <p:cNvSpPr/>
          <p:nvPr/>
        </p:nvSpPr>
        <p:spPr>
          <a:xfrm>
            <a:off x="2124000" y="4221000"/>
            <a:ext cx="719280" cy="3603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Databa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mprehensive OR Core Databa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85640" y="24714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of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81080"/>
            <a:ext cx="84009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atabase name provid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nstitute of Scientific Information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ous in our country 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SI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name now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rivate Analytics, No ISI availabl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of Sciences is the same database that we calculate the Journal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it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ed Datab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ubjects Specified Databa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400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Pharmaceutical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ych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N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14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ational Library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ographic Data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55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ver 29,000,0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tions of both clinical and preclinical stu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ary database known 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MED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citations and abstracts for studies that have been published recently but not yet inde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ject 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Specialties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% of References contain Abs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b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id 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lsevier Medline, … all are the same &amp; have the same database content but different Inte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dex Medi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same, different generation of Me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9-08-02T13:40:56Z</dcterms:modified>
  <cp:revision>104</cp:revision>
  <dc:subject/>
  <dc:title>Introduction</dc:title>
</cp:coreProperties>
</file>