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EE82B-3920-468E-8B5C-3354A8614A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8E48A-65D7-469B-809D-0EE77A06D0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68F53-DD42-4AAB-B6E8-58CE8E3C6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8C48E-6BA5-4A96-86D0-5A49805C6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B627D-248F-432C-AC34-26FA4EDB6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60111-96C1-4B53-BF6E-8200C39F3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5C2D9-3474-4D61-97D1-AD2B58858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E7FDF-B57E-4C35-9282-13F301A104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F8943-DB30-4171-B049-12125FE61E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65DD1-E03C-4A03-8EA3-5B563A5F7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5D772-EAE0-4018-964E-0CA9AC10A3DF}" type="slidenum">
              <a:rPr b="0" lang="fa-I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09F89-D8F5-4F31-932B-1CFF5F96ED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F98C1-B047-423F-832E-F4A5C223D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CD617-F84A-4418-87CF-1D369F5C0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5808B-0515-4F37-A9AE-ABD2EE228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E1229-DFFE-40DC-91A9-7B0A9F0B4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F09F7-5686-4F80-871E-4C48B03F7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8FC00-AA84-4921-9527-57E2B7B07E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27709-4839-4440-9FED-9BE43C10E5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BDA58-7353-4975-B000-E5A092F9B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27F55-70CA-45B2-ABC1-B335F5EA94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356EC-2792-443E-9D5E-F60FC5ED8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E935E-37D3-4B9C-A90F-D7A4B61BA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F2D71-EAFA-45D8-9A79-73211214F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54239-F1E3-4E5C-A5C0-D8BC1C5B1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E4CBD-DF11-4184-AFC6-5E3D26D4D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CCEE0-F969-4620-AEB5-20CACF567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A8B30-C538-4CA6-852B-DFD4BBF68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17AAE-86BA-4BED-970D-BF513805B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CFC3B-6F64-4126-9C4C-BCB34E036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0532D-84BB-40DD-B6A1-F0AB9A7D8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16F93-4069-418E-9AA4-D6DE36550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F4233-A552-4F02-ABA2-15C04924F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883F6-F8A3-46A3-B4BC-3DBE140BF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F7415-F817-45DC-8ACA-5182065A3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91199-C046-458F-980B-D175D0766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584E9-579A-4638-AC56-BD2D99D3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D83B5-223D-4CAF-A34C-C817EE8C6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43010-16A9-447A-B3F4-933FBFFBB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2C065-28C4-4AC6-BB71-D14E29459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272BB-C716-4342-B2E8-AE8E36AD3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1FB79-FFFA-4238-A485-3806A06A6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BE120-DCC3-4476-9E66-3D540B661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75929-36BA-4679-90CD-AAF728004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BEE09-6490-4D05-A087-F6BB2BA5A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A55B8-045C-4290-9516-00AFE5F2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0EAA7-E6E7-4D0A-9A21-8BECB25A3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FDD49-463F-4B2D-AFA9-3C4FCADD4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FDA83-BEA3-4879-A7F9-C57BA2DE32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3365C-AD23-43C8-92EE-5702D5B8C8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805040" y="2356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Notes About Tit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066680" y="4286160"/>
            <a:ext cx="777240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am Kabiri, MD. Ph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idemi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partment of Epidemiology &amp; Bio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hool of Public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hran University of Medical Sc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430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lcome Again !?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Content Placeholder 7" descr="13.gif"/>
          <p:cNvPicPr/>
          <p:nvPr/>
        </p:nvPicPr>
        <p:blipFill>
          <a:blip r:embed="rId1"/>
          <a:stretch/>
        </p:blipFill>
        <p:spPr>
          <a:xfrm>
            <a:off x="361800" y="1643040"/>
            <a:ext cx="834408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430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Example 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Content Placeholder 8" descr="23929-3.jpg"/>
          <p:cNvPicPr/>
          <p:nvPr/>
        </p:nvPicPr>
        <p:blipFill>
          <a:blip r:embed="rId1"/>
          <a:stretch/>
        </p:blipFill>
        <p:spPr>
          <a:xfrm>
            <a:off x="642960" y="2286000"/>
            <a:ext cx="775332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utin suggestions for titl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ise and precis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Informative and descriptiv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Not misleading or unrepresentativ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Specific – for example, include type of study and numbers (if large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Words appropriate for classific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Interesting not du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&amp; Finally check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 accurate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Is it in any way misleading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Does it contain essential key words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Is it interest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cative (State what paper covers, not what it say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ve (Good to start writing wit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48744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000000"/>
                </a:solidFill>
                <a:latin typeface="Arial"/>
                <a:cs typeface="Mitra"/>
              </a:rPr>
              <a:t>عنوان مقال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90720" y="2230200"/>
            <a:ext cx="7696080" cy="40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 algn="just" rtl="1">
              <a:spcBef>
                <a:spcPts val="9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"/>
                <a:cs typeface="Mitra"/>
              </a:rPr>
              <a:t>عنوان اصلی</a:t>
            </a:r>
            <a:r>
              <a:rPr b="0" lang="fa-IR" sz="3600" spc="-1" strike="noStrike">
                <a:solidFill>
                  <a:srgbClr val="000000"/>
                </a:solidFill>
                <a:latin typeface="Arial"/>
                <a:ea typeface="Mitra"/>
              </a:rPr>
              <a:t>	</a:t>
            </a:r>
            <a:r>
              <a:rPr b="0" lang="fa-IR" sz="3600" spc="-1" strike="noStrike">
                <a:solidFill>
                  <a:srgbClr val="000000"/>
                </a:solidFill>
                <a:latin typeface="Arial"/>
                <a:ea typeface="Mitra"/>
              </a:rPr>
              <a:t>	</a:t>
            </a:r>
            <a:r>
              <a:rPr b="0" lang="fa-IR" sz="3600" spc="-1" strike="noStrike">
                <a:solidFill>
                  <a:srgbClr val="000000"/>
                </a:solidFill>
                <a:latin typeface="Arial"/>
                <a:ea typeface="Mitr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itra"/>
              </a:rPr>
              <a:t>Main Titl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itra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just" rtl="1">
              <a:spcBef>
                <a:spcPts val="9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"/>
                <a:cs typeface="Mitra"/>
              </a:rPr>
              <a:t>عنوان مکرری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unning Titl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a-IR" sz="3600" spc="-1" strike="noStrike">
                <a:solidFill>
                  <a:srgbClr val="000000"/>
                </a:solidFill>
                <a:latin typeface="Arial"/>
                <a:ea typeface="Mitr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3520" y="227664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How to Write </a:t>
            </a:r>
            <a:br>
              <a:rPr sz="6000"/>
            </a:b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Introduction Section</a:t>
            </a: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1066680" y="4286160"/>
            <a:ext cx="777240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am Kabiri, MD. Ph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idemi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partment of Epidemiology &amp; Bio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hool of Public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hran University of Medical Sc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42960" y="200016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neral, concise description of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kground to the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evious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re that work is defic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your research will be b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te the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3 to 4 paragrap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3"/>
          <p:cNvSpPr/>
          <p:nvPr/>
        </p:nvSpPr>
        <p:spPr>
          <a:xfrm>
            <a:off x="2556000" y="404640"/>
            <a:ext cx="4105080" cy="1008360"/>
          </a:xfrm>
          <a:prstGeom prst="rect">
            <a:avLst/>
          </a:prstGeom>
          <a:solidFill>
            <a:srgbClr val="9999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aragraph1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What we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4356000" y="155736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2484360" y="2708280"/>
            <a:ext cx="4176720" cy="1008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aragraph2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What we don’t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2556000" y="5229360"/>
            <a:ext cx="4032000" cy="1079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aragraph3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Why we did this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4"/>
          <p:cNvSpPr/>
          <p:nvPr/>
        </p:nvSpPr>
        <p:spPr>
          <a:xfrm>
            <a:off x="4390920" y="397656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85480" y="1643040"/>
            <a:ext cx="8715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74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  <a:ea typeface="Mitra"/>
              </a:rPr>
              <a:t>Existing state of knowledg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74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  <a:ea typeface="Mitra"/>
              </a:rPr>
              <a:t>Gaps in knowledge which research will fill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74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  <a:ea typeface="Mitra"/>
              </a:rPr>
              <a:t>State what you Intend to do &amp; the purpose of articl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74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  <a:ea typeface="Mitra"/>
              </a:rPr>
              <a:t>Give pertinent referenc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74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  <a:ea typeface="Mitra"/>
              </a:rPr>
              <a:t>Summarize the rationale for study or observa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74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efine specialized terms or abbreviations you want to us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48744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000000"/>
                </a:solidFill>
                <a:latin typeface="Arial"/>
                <a:cs typeface="Mitra"/>
              </a:rPr>
              <a:t>عنوان مقال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71680" y="2142720"/>
            <a:ext cx="8115120" cy="40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algn="just" rtl="1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"/>
                <a:ea typeface="Mitra"/>
              </a:rPr>
              <a:t> عنوان مقاله را هزاران نفر مي‌خوانند، درحالي که تعداد اندکي کل مقاله را بررسي مي‌کنند. عنوان مقاله در صفحه محتواي مجله و نيز در اندکس‌هاي پزشکي توسط بسياري خوانده مي‌شود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itra"/>
              </a:rPr>
              <a:t> </a:t>
            </a:r>
            <a:r>
              <a:rPr b="0" lang="fa-IR" sz="3600" spc="-1" strike="noStrike">
                <a:solidFill>
                  <a:srgbClr val="000000"/>
                </a:solidFill>
                <a:latin typeface="Arial"/>
                <a:cs typeface="Mitra"/>
              </a:rPr>
              <a:t>عنوان مانند تابلوي يک مغازه است و يا محصول يک کارخانه يا مزرعه است و لذا بايد جذاب باشد، تا افراد را براي خواندن مقاله جذب کند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just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verted pyram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xidative stress plays an important role in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n LDL particles are oxidized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tioxidants are important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..Paraoxonase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make it a review arti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n not include methods, results and 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put down every all previous studies &amp; their data g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explain pathophysiology irrelevant to your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heck list for 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it clear why you did the stud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does your study add to knowled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criticism justified and gent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can be left 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2998800" y="685800"/>
            <a:ext cx="344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New York"/>
              </a:rPr>
              <a:t>Quest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G:\Users\Mine\Desktop\question-mark2a.jpg"/>
          <p:cNvPicPr/>
          <p:nvPr/>
        </p:nvPicPr>
        <p:blipFill>
          <a:blip r:embed="rId1"/>
          <a:stretch/>
        </p:blipFill>
        <p:spPr>
          <a:xfrm>
            <a:off x="2500200" y="1643040"/>
            <a:ext cx="412776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42680" y="2933280"/>
            <a:ext cx="7348680" cy="12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ffffff"/>
                </a:solidFill>
                <a:latin typeface="Arial"/>
                <a:cs typeface="B Mitra"/>
              </a:rPr>
              <a:t>بزنید</a:t>
            </a:r>
            <a:r>
              <a:rPr b="0" lang="fa-IR" sz="5400" spc="-1" strike="noStrike">
                <a:solidFill>
                  <a:srgbClr val="ffffff"/>
                </a:solidFill>
                <a:latin typeface="Arial"/>
                <a:ea typeface="B Mitra"/>
              </a:rPr>
              <a:t> </a:t>
            </a:r>
            <a:r>
              <a:rPr b="0" lang="fa-IR" sz="5400" spc="-1" strike="noStrike">
                <a:solidFill>
                  <a:srgbClr val="ffffff"/>
                </a:solidFill>
                <a:latin typeface="Arial"/>
                <a:ea typeface="B Mitra"/>
              </a:rPr>
              <a:t>!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B Mitra"/>
              </a:rPr>
              <a:t> Email </a:t>
            </a:r>
            <a:r>
              <a:rPr b="0" lang="fa-IR" sz="5400" spc="-1" strike="noStrike">
                <a:solidFill>
                  <a:srgbClr val="ffffff"/>
                </a:solidFill>
                <a:latin typeface="Arial"/>
                <a:cs typeface="B Mitra"/>
              </a:rPr>
              <a:t>اگر میل داشتی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999720" y="4266720"/>
            <a:ext cx="79916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kabiri@tums.ac.i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8229600" cy="44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&amp; most of the times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nly part of an artic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readers and editor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ee and re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elements that advertises the paper’s 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forma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peci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be helpful to choose the titl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hen the paper is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48744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000000"/>
                </a:solidFill>
                <a:latin typeface="Arial"/>
                <a:cs typeface="Mitra"/>
              </a:rPr>
              <a:t>عنوان مقال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28400" y="2214360"/>
            <a:ext cx="8258040" cy="40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"/>
                <a:cs typeface="Mitra"/>
              </a:rPr>
              <a:t>عنوان مقاله بايد با حداقل تعداد کلمات و درعين‌حال به‌طور کافي بيان‌گر محتواي مقاله باشد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"/>
                <a:ea typeface="Mitra"/>
              </a:rPr>
              <a:t> کلمه‌هاي کوتاه انتخاب شود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"/>
                <a:ea typeface="Mitra"/>
              </a:rPr>
              <a:t> مبهم نبوده، دقيق باشد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"/>
                <a:ea typeface="Mitra"/>
              </a:rPr>
              <a:t> کلمه‌هاي اختصاصي بکار رود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"/>
                <a:ea typeface="Mitra"/>
              </a:rPr>
              <a:t> کلمه‌ها آشنا باشد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11"/>
          <p:cNvPicPr/>
          <p:nvPr/>
        </p:nvPicPr>
        <p:blipFill>
          <a:blip r:embed="rId1"/>
          <a:stretch/>
        </p:blipFill>
        <p:spPr>
          <a:xfrm>
            <a:off x="395280" y="4437000"/>
            <a:ext cx="187308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exception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Content Placeholder 3" descr="1.jpg"/>
          <p:cNvPicPr/>
          <p:nvPr/>
        </p:nvPicPr>
        <p:blipFill>
          <a:blip r:embed="rId1"/>
          <a:stretch/>
        </p:blipFill>
        <p:spPr>
          <a:xfrm>
            <a:off x="428760" y="1857240"/>
            <a:ext cx="8281800" cy="45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0040" y="171468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Short and simp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State subject, not conclus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Include study desig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Include time and place if necessar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Begin with a keywor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Avoid abbreviat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move empty phrases such as “ A study of…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se Subtitles (notice number of words) “Exercise and Coronary Heart Disease: Framingham Offspring Study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571320" y="1857240"/>
            <a:ext cx="819612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Mitra"/>
              </a:rPr>
              <a:t>بهتر است که عنوان با </a:t>
            </a:r>
            <a:r>
              <a:rPr b="0" lang="fa-IR" sz="3200" spc="-1" strike="noStrike">
                <a:solidFill>
                  <a:srgbClr val="ff0000"/>
                </a:solidFill>
                <a:latin typeface="Arial"/>
                <a:cs typeface="Mitra"/>
              </a:rPr>
              <a:t>کلمات کليدی و اصلی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Mitra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itra"/>
              </a:rPr>
              <a:t>Keyword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Mitra"/>
              </a:rPr>
              <a:t>) شروع شود. به‌عبارت ديگر بهتر است که عنوان شامل کلمات کليدی و اصلی باشد که بوسيله تعدادی حروف ربط درکنار يکديگر قرار گرفته‌اند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- Aortic Stenosis ,Von Willebrand Factor , and Bleeding 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-"Acquired Von Willebrand syndrome in Aortic Stenosi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-"Risk of Bacterial Meningitis in Children with Cochlear Impl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0" y="487440"/>
            <a:ext cx="914400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000000"/>
                </a:solidFill>
                <a:latin typeface="Arial"/>
                <a:cs typeface="Mitra"/>
              </a:rPr>
              <a:t>عنوان مقال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 algn="just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Mitra"/>
              </a:rPr>
              <a:t>گاهی اوقات بهتر است که عنوان مقاله به صورت </a:t>
            </a:r>
            <a:r>
              <a:rPr b="0" lang="fa-IR" sz="3200" spc="-1" strike="noStrike">
                <a:solidFill>
                  <a:srgbClr val="ff0000"/>
                </a:solidFill>
                <a:latin typeface="Arial"/>
                <a:cs typeface="Mitra"/>
              </a:rPr>
              <a:t>سوالی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Mitra"/>
              </a:rPr>
              <a:t> مطرح شود که باعث ترغيب خواننده گردد. اصولا طرح عنوان مقاله به صورت سوال، يکی از الگوهای عنوان نويسی می‌باش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-" Do Bisphosphonates Make Children’s Bones Better or Brittle ?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-" Use It or Lose It –Do Effortful Mental Activities Protect against Dementia?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-" Behind the Research : Death by Voluntary Dehydration –What the Caregivers Say ?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48744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000000"/>
                </a:solidFill>
                <a:latin typeface="Arial"/>
                <a:cs typeface="Mitra"/>
              </a:rPr>
              <a:t>عنوان مقال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s Guid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13840" y="1785960"/>
            <a:ext cx="857268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- New England Journal of Medicin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nci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escrip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not declarative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- Lancet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nci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u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formativ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- Annals of Internal Medicin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A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rie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 possible while conveying essential features of the article’s conte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- BMJ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Keep them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n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2T19:18:51Z</dcterms:created>
  <dc:creator>ha</dc:creator>
  <dc:description/>
  <dc:language>en-US</dc:language>
  <cp:lastModifiedBy>Payam Kabiri</cp:lastModifiedBy>
  <dcterms:modified xsi:type="dcterms:W3CDTF">2016-03-10T07:02:24Z</dcterms:modified>
  <cp:revision>46</cp:revision>
  <dc:subject/>
  <dc:title>Introduction</dc:title>
</cp:coreProperties>
</file>