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F45B-1957-4308-8BBE-2743A4497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DBB-3F7F-4EC3-84D1-6A8A1D4B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182-8249-46DA-BE90-9866C696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B68-AE06-4F34-A4F5-86C5CD2D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C5B4-9140-43F6-86D4-8A78A8C0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17E-FD60-44A4-A6C9-547EF4E2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460D-8F55-4980-BDBA-F28D5E16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3CF0-2E60-4DB2-BA3F-CAB11924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DDC5-49AB-4C0E-9FEA-BAE6744E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DD07-E6E6-4FCF-B624-68AD5B8A4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A7BB-83FD-487F-BBDD-54EC08BF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92D5-9FE8-441F-B5D6-3DDC618CA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C98E-DB40-484A-96A0-CD3C3E0A5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0457-6F63-423E-A8C0-F95C3758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BB51-A78D-4396-9A7F-A09B39140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573F-3566-44F8-897B-CB82A198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A8A5-BF3F-4C9D-8F85-EA1B37F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6417-161A-466D-BAC3-13F1C8A5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8371-8170-4CAA-8D81-BA54BFFB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3B3C-1089-4D13-A266-F635EC1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D009-F883-41A2-80DC-B030E32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219-96E3-4EE5-BA37-EB064125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D1EF-4DEE-4E6B-9DEB-AB943E34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4B20-3AC2-4416-BCD3-05BDEA08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B8F0-D5C1-4EB2-9FA7-F77E9284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3C6A-6E33-4400-8907-1F57DE75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B5D9-AF49-4420-A6FF-18EE78EB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05DB-87C5-46CB-BD73-5FF6634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771A-BE41-4750-98AA-262830B9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15D6-A0B2-404B-BC9B-5506AB90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698E-F829-4806-B420-2767A7CB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0528-20F6-427C-AB26-05FB4FAD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41D9-D4DB-49D8-9C4C-1DA5891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9D98-CF56-4D79-AF17-884677FB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93E6-6E29-470B-AEAD-71043780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4076-25B2-461E-A687-A0C9606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CB9F-9F77-466C-A524-484AEB2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45BF-00CF-4227-A99F-5938BE74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5C5A-DB07-4F7C-A3D7-B41A2D3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A92A-C9D2-4A6A-B6C9-4FA17A189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E990-8B0C-485E-A54D-D468E48F1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onsort-statement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1856880"/>
            <a:ext cx="7696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to Write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Material &amp; Methods Sec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148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82152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enough details for readers to assess the validity of the results, and repeat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standard techniques is used, give appropriate reference, any modifications should be clearly expl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drug trial, clear description of trial o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o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hape &amp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o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580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breviations and acrony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they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dely know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t using them could ma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ding ted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 in full in the first inst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mmediately by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brev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sion or acronym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“We contacte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ld Health Organization (WHO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d the relevant inform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riting and Report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nct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.g. or 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use the same style for ‘ie’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 unit abbrevi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not be defined (eg mL and m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space either side of the symb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participants). There sh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pace either sid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(eg 10/5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sp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number and the u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0.4 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 and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e vo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“two authors extracted data”)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fe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passive voice (“data were extracted by two author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ther not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(not P-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SS 1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version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web 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ell 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ss than 10 in 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nless used with units (eg 5 mL) or in a list with other numbers (eg 6,12, and 24 month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ut in 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at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rt of a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ths out in full to avoid confusion between different regional date formats (May 2000; 1 May 2000), and express decades as, for example, 1960s (no apostroph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armaceutical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mmended International Non-proprietary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INN) for all pharmaceutical drugs (and put the specific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 name in brack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e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DATAB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CAPITAL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Medline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OP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Scopus)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Embase)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syc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Psychinfo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INAH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Cinah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ways to present summary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 ratio (R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0.14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95% confidence interval (C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8 to 0.24) (use this option if the RR and C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ve not been abbreviated earl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ex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difference 1.11 hours (95% CI 0.98 to 1.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r 1.02, 95% ci 0.87 to 1.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reader to judge the quality of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ies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repetition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the study design &amp;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results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decimal places (eg p value = 0.0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less the number is very small (eg p value = 0.00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ORT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olidated Standards of Reporting T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veloped by the CONSORT Group to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llev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lems arising from inadequate reporting of randomized controlled tria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RC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site: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nsort-statemen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33520" y="0"/>
            <a:ext cx="8001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WWH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(what, who, where, when, why &amp; how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ient/Participants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domisation/Placebo/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ics/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comes and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al methods &amp;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y design mentio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, what, where, why, how,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sion/exclusion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ical &amp; chronological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ments defined? justified? detailed? referen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size just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ormations and statistical analyses cl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pecial fea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techniques validated prop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the reade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our study from the details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9720" y="16048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How to Write Methods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for Interventional Studies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3440" y="67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671120"/>
            <a:ext cx="84297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bjects/patients/animals/specim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 wer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 for selecting the experimental design of the stu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al methods used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ction should be called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"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thods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animate specime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been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28760" y="2071800"/>
            <a:ext cx="828648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ient / Animals / Specim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on Cri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re they grouped (cases /contr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ed consent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2-03T14:16:35Z</dcterms:modified>
  <cp:revision>55</cp:revision>
  <dc:subject/>
  <dc:title>Introduction</dc:title>
</cp:coreProperties>
</file>